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E3F-3A1C-4FB3-851C-575AFCEF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E6D-C621-4548-BEDD-28FFA811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E7B-1D05-418D-BFDA-C361A779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307-5975-4896-9416-9AF7E137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DE2E-C9AB-4AD7-8AF2-7CBD161F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6266-2765-4F16-8839-242CE778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B80C-BFF6-4FF8-AE21-0D8E5672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A82D-2F87-4E4A-9F25-651D9415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2708-5EEC-4409-9FE8-47756C00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786D-7A7A-40AD-BB30-B94E184A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86A8-D9D8-4DA9-BA60-61B0639C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AD9-7FC0-4F56-AED4-21CE1657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6E4-E1D2-4468-930E-3E83BB6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A0E5-185A-4F57-967D-F6DD624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3310-FE6E-4D1A-8DFE-6C5CA4D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3353-767E-4991-A6D9-127C2A22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38AD-50FF-4DEF-B25B-C7BF3851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8F8-6433-4481-9669-9DE4E9F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978-092F-443B-8CF1-2D348BC6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32C-E0C2-4026-8E3F-100E1740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C98-8011-48F6-AE62-86C17907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A2D-64AC-43F6-8323-D8B0467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9C5-C7AF-4076-9755-0CBD48D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8F5-D5D6-4EE7-88D1-072C9D4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8CF9-A576-4403-8880-41B2596983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1972-493D-416C-8122-042A77FA68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x 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 x 3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5/6 x 2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84720" y="1643040"/>
            <a:ext cx="563400" cy="911160"/>
          </a:xfrm>
          <a:custGeom>
            <a:avLst/>
            <a:gdLst/>
            <a:ahLst/>
            <a:rect l="l" t="t" r="r" b="b"/>
            <a:pathLst>
              <a:path w="1564" h="2531">
                <a:moveTo>
                  <a:pt x="10046" y="4564"/>
                </a:moveTo>
                <a:cubicBezTo>
                  <a:pt x="10025" y="4769"/>
                  <a:pt x="10005" y="4980"/>
                  <a:pt x="9971" y="5184"/>
                </a:cubicBezTo>
                <a:cubicBezTo>
                  <a:pt x="9953" y="5258"/>
                  <a:pt x="9945" y="5265"/>
                  <a:pt x="9947" y="5308"/>
                </a:cubicBezTo>
              </a:path>
              <a:path w="1564" h="2531">
                <a:moveTo>
                  <a:pt x="9401" y="5457"/>
                </a:moveTo>
                <a:cubicBezTo>
                  <a:pt x="9662" y="5411"/>
                  <a:pt x="9952" y="5395"/>
                  <a:pt x="10220" y="5383"/>
                </a:cubicBezTo>
                <a:cubicBezTo>
                  <a:pt x="10342" y="5378"/>
                  <a:pt x="10469" y="5383"/>
                  <a:pt x="10592" y="5383"/>
                </a:cubicBezTo>
              </a:path>
              <a:path w="1564" h="2531">
                <a:moveTo>
                  <a:pt x="9773" y="5779"/>
                </a:moveTo>
                <a:cubicBezTo>
                  <a:pt x="9726" y="5899"/>
                  <a:pt x="9674" y="6009"/>
                  <a:pt x="9624" y="6127"/>
                </a:cubicBezTo>
                <a:cubicBezTo>
                  <a:pt x="9768" y="6113"/>
                  <a:pt x="9908" y="6083"/>
                  <a:pt x="10046" y="6052"/>
                </a:cubicBezTo>
                <a:cubicBezTo>
                  <a:pt x="10054" y="6052"/>
                  <a:pt x="10063" y="6052"/>
                  <a:pt x="10071" y="6052"/>
                </a:cubicBezTo>
              </a:path>
              <a:path w="1564" h="2531">
                <a:moveTo>
                  <a:pt x="10071" y="5755"/>
                </a:moveTo>
                <a:cubicBezTo>
                  <a:pt x="10010" y="5959"/>
                  <a:pt x="9970" y="6163"/>
                  <a:pt x="9947" y="6375"/>
                </a:cubicBezTo>
                <a:cubicBezTo>
                  <a:pt x="9947" y="6391"/>
                  <a:pt x="9947" y="6408"/>
                  <a:pt x="9947" y="6424"/>
                </a:cubicBezTo>
              </a:path>
              <a:path w="1564" h="2531">
                <a:moveTo>
                  <a:pt x="10616" y="6028"/>
                </a:moveTo>
                <a:cubicBezTo>
                  <a:pt x="10668" y="6147"/>
                  <a:pt x="10610" y="6261"/>
                  <a:pt x="10542" y="6375"/>
                </a:cubicBezTo>
                <a:cubicBezTo>
                  <a:pt x="10483" y="6474"/>
                  <a:pt x="10759" y="6296"/>
                  <a:pt x="10790" y="6276"/>
                </a:cubicBezTo>
              </a:path>
              <a:path w="1564" h="2531">
                <a:moveTo>
                  <a:pt x="9500" y="6400"/>
                </a:moveTo>
                <a:cubicBezTo>
                  <a:pt x="9797" y="6347"/>
                  <a:pt x="10096" y="6287"/>
                  <a:pt x="10393" y="6226"/>
                </a:cubicBezTo>
                <a:cubicBezTo>
                  <a:pt x="10611" y="6181"/>
                  <a:pt x="10756" y="6157"/>
                  <a:pt x="10964" y="6127"/>
                </a:cubicBezTo>
              </a:path>
              <a:path w="1564" h="2531">
                <a:moveTo>
                  <a:pt x="10021" y="6672"/>
                </a:moveTo>
                <a:cubicBezTo>
                  <a:pt x="10021" y="6729"/>
                  <a:pt x="9978" y="6971"/>
                  <a:pt x="9996" y="6995"/>
                </a:cubicBezTo>
                <a:cubicBezTo>
                  <a:pt x="10021" y="6987"/>
                  <a:pt x="10046" y="6978"/>
                  <a:pt x="10071" y="6970"/>
                </a:cubicBezTo>
              </a:path>
              <a:path w="1564" h="2531">
                <a:moveTo>
                  <a:pt x="9723" y="6722"/>
                </a:moveTo>
                <a:cubicBezTo>
                  <a:pt x="9794" y="6627"/>
                  <a:pt x="9973" y="6634"/>
                  <a:pt x="10096" y="6623"/>
                </a:cubicBezTo>
                <a:cubicBezTo>
                  <a:pt x="10132" y="6789"/>
                  <a:pt x="10051" y="6925"/>
                  <a:pt x="9922" y="7045"/>
                </a:cubicBezTo>
                <a:cubicBezTo>
                  <a:pt x="9865" y="7082"/>
                  <a:pt x="9818" y="7099"/>
                  <a:pt x="9872" y="7094"/>
                </a:cubicBezTo>
                <a:cubicBezTo>
                  <a:pt x="10055" y="6991"/>
                  <a:pt x="10244" y="6863"/>
                  <a:pt x="10443" y="6796"/>
                </a:cubicBezTo>
                <a:cubicBezTo>
                  <a:pt x="10451" y="6796"/>
                  <a:pt x="10460" y="6796"/>
                  <a:pt x="10468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6200" y="1866960"/>
            <a:ext cx="965160" cy="3643200"/>
          </a:xfrm>
          <a:custGeom>
            <a:avLst/>
            <a:gdLst/>
            <a:ahLst/>
            <a:rect l="l" t="t" r="r" b="b"/>
            <a:pathLst>
              <a:path w="2680" h="10121">
                <a:moveTo>
                  <a:pt x="13915" y="5234"/>
                </a:moveTo>
                <a:cubicBezTo>
                  <a:pt x="14031" y="5211"/>
                  <a:pt x="14140" y="5190"/>
                  <a:pt x="14263" y="5184"/>
                </a:cubicBezTo>
              </a:path>
              <a:path w="2680" h="10121">
                <a:moveTo>
                  <a:pt x="13965" y="5432"/>
                </a:moveTo>
                <a:cubicBezTo>
                  <a:pt x="14171" y="5381"/>
                  <a:pt x="14246" y="5363"/>
                  <a:pt x="14387" y="5333"/>
                </a:cubicBezTo>
              </a:path>
              <a:path w="2680" h="10121">
                <a:moveTo>
                  <a:pt x="14387" y="5333"/>
                </a:moveTo>
                <a:lnTo>
                  <a:pt x="14387" y="5333"/>
                </a:lnTo>
              </a:path>
              <a:path w="2680" h="10121">
                <a:moveTo>
                  <a:pt x="13940" y="7938"/>
                </a:moveTo>
                <a:cubicBezTo>
                  <a:pt x="14143" y="7879"/>
                  <a:pt x="14256" y="7842"/>
                  <a:pt x="14461" y="7863"/>
                </a:cubicBezTo>
              </a:path>
              <a:path w="2680" h="10121">
                <a:moveTo>
                  <a:pt x="13891" y="8235"/>
                </a:moveTo>
                <a:cubicBezTo>
                  <a:pt x="13864" y="8342"/>
                  <a:pt x="13854" y="8383"/>
                  <a:pt x="13841" y="8458"/>
                </a:cubicBezTo>
                <a:cubicBezTo>
                  <a:pt x="13980" y="8521"/>
                  <a:pt x="14005" y="8478"/>
                  <a:pt x="14163" y="8409"/>
                </a:cubicBezTo>
              </a:path>
              <a:path w="2680" h="10121">
                <a:moveTo>
                  <a:pt x="13692" y="8706"/>
                </a:moveTo>
                <a:cubicBezTo>
                  <a:pt x="13627" y="8794"/>
                  <a:pt x="13607" y="8812"/>
                  <a:pt x="13593" y="8880"/>
                </a:cubicBezTo>
              </a:path>
              <a:path w="2680" h="10121">
                <a:moveTo>
                  <a:pt x="13692" y="7169"/>
                </a:moveTo>
                <a:cubicBezTo>
                  <a:pt x="13825" y="7148"/>
                  <a:pt x="13955" y="7127"/>
                  <a:pt x="14089" y="7119"/>
                </a:cubicBezTo>
              </a:path>
              <a:path w="2680" h="10121">
                <a:moveTo>
                  <a:pt x="13295" y="14312"/>
                </a:moveTo>
                <a:cubicBezTo>
                  <a:pt x="13600" y="14234"/>
                  <a:pt x="13878" y="14113"/>
                  <a:pt x="14139" y="14288"/>
                </a:cubicBezTo>
              </a:path>
              <a:path w="2680" h="10121">
                <a:moveTo>
                  <a:pt x="14560" y="14511"/>
                </a:moveTo>
                <a:cubicBezTo>
                  <a:pt x="14610" y="14494"/>
                  <a:pt x="14659" y="14478"/>
                  <a:pt x="14709" y="14461"/>
                </a:cubicBezTo>
              </a:path>
              <a:path w="2680" h="10121">
                <a:moveTo>
                  <a:pt x="14709" y="14461"/>
                </a:moveTo>
                <a:lnTo>
                  <a:pt x="14709" y="14461"/>
                </a:lnTo>
              </a:path>
              <a:path w="2680" h="10121">
                <a:moveTo>
                  <a:pt x="15974" y="14808"/>
                </a:moveTo>
                <a:cubicBezTo>
                  <a:pt x="15952" y="14973"/>
                  <a:pt x="15940" y="15138"/>
                  <a:pt x="15925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0760" y="2544840"/>
            <a:ext cx="9360" cy="63360"/>
          </a:xfrm>
          <a:custGeom>
            <a:avLst/>
            <a:gdLst/>
            <a:ahLst/>
            <a:rect l="l" t="t" r="r" b="b"/>
            <a:pathLst>
              <a:path w="25" h="175">
                <a:moveTo>
                  <a:pt x="13891" y="7094"/>
                </a:moveTo>
                <a:cubicBezTo>
                  <a:pt x="13951" y="7032"/>
                  <a:pt x="13895" y="7197"/>
                  <a:pt x="13891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94200" y="3125880"/>
            <a:ext cx="34920" cy="810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13618" y="8706"/>
                </a:moveTo>
                <a:cubicBezTo>
                  <a:pt x="13618" y="8678"/>
                  <a:pt x="13615" y="8673"/>
                  <a:pt x="13593" y="8706"/>
                </a:cubicBezTo>
                <a:cubicBezTo>
                  <a:pt x="13635" y="8774"/>
                  <a:pt x="13671" y="8829"/>
                  <a:pt x="13692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54320" y="304488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1261" y="8533"/>
                </a:moveTo>
                <a:cubicBezTo>
                  <a:pt x="11375" y="8495"/>
                  <a:pt x="11666" y="8350"/>
                  <a:pt x="11509" y="8607"/>
                </a:cubicBezTo>
                <a:cubicBezTo>
                  <a:pt x="11476" y="8648"/>
                  <a:pt x="11443" y="8690"/>
                  <a:pt x="11410" y="8731"/>
                </a:cubicBezTo>
                <a:cubicBezTo>
                  <a:pt x="11385" y="8748"/>
                  <a:pt x="11361" y="8764"/>
                  <a:pt x="11336" y="8781"/>
                </a:cubicBezTo>
                <a:cubicBezTo>
                  <a:pt x="11397" y="8740"/>
                  <a:pt x="11642" y="8622"/>
                  <a:pt x="11658" y="8756"/>
                </a:cubicBezTo>
                <a:cubicBezTo>
                  <a:pt x="11683" y="8957"/>
                  <a:pt x="11348" y="8953"/>
                  <a:pt x="1126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2080" y="2652840"/>
            <a:ext cx="733320" cy="411120"/>
          </a:xfrm>
          <a:custGeom>
            <a:avLst/>
            <a:gdLst/>
            <a:ahLst/>
            <a:rect l="l" t="t" r="r" b="b"/>
            <a:pathLst>
              <a:path w="2035" h="1142">
                <a:moveTo>
                  <a:pt x="12229" y="8086"/>
                </a:moveTo>
                <a:cubicBezTo>
                  <a:pt x="12317" y="8194"/>
                  <a:pt x="12471" y="8369"/>
                  <a:pt x="12601" y="8434"/>
                </a:cubicBezTo>
                <a:cubicBezTo>
                  <a:pt x="12601" y="8426"/>
                  <a:pt x="12601" y="8417"/>
                  <a:pt x="12601" y="8409"/>
                </a:cubicBezTo>
              </a:path>
              <a:path w="2035" h="1142">
                <a:moveTo>
                  <a:pt x="12526" y="8086"/>
                </a:moveTo>
                <a:cubicBezTo>
                  <a:pt x="12456" y="8226"/>
                  <a:pt x="12386" y="8363"/>
                  <a:pt x="12328" y="8508"/>
                </a:cubicBezTo>
              </a:path>
              <a:path w="2035" h="1142">
                <a:moveTo>
                  <a:pt x="13221" y="7739"/>
                </a:moveTo>
                <a:cubicBezTo>
                  <a:pt x="13281" y="7642"/>
                  <a:pt x="13523" y="7563"/>
                  <a:pt x="13543" y="7789"/>
                </a:cubicBezTo>
                <a:cubicBezTo>
                  <a:pt x="13496" y="7933"/>
                  <a:pt x="13483" y="7978"/>
                  <a:pt x="13395" y="8037"/>
                </a:cubicBezTo>
                <a:cubicBezTo>
                  <a:pt x="13189" y="8083"/>
                  <a:pt x="13491" y="7972"/>
                  <a:pt x="13568" y="8037"/>
                </a:cubicBezTo>
                <a:cubicBezTo>
                  <a:pt x="13777" y="8213"/>
                  <a:pt x="13406" y="8483"/>
                  <a:pt x="13246" y="8483"/>
                </a:cubicBezTo>
                <a:cubicBezTo>
                  <a:pt x="13139" y="8431"/>
                  <a:pt x="13109" y="8407"/>
                  <a:pt x="13196" y="8310"/>
                </a:cubicBezTo>
              </a:path>
              <a:path w="2035" h="1142">
                <a:moveTo>
                  <a:pt x="13915" y="7466"/>
                </a:moveTo>
                <a:cubicBezTo>
                  <a:pt x="13955" y="7388"/>
                  <a:pt x="14093" y="7354"/>
                  <a:pt x="14188" y="7367"/>
                </a:cubicBezTo>
                <a:cubicBezTo>
                  <a:pt x="14277" y="7379"/>
                  <a:pt x="14130" y="7504"/>
                  <a:pt x="14064" y="7565"/>
                </a:cubicBezTo>
                <a:cubicBezTo>
                  <a:pt x="14064" y="7573"/>
                  <a:pt x="14064" y="7582"/>
                  <a:pt x="14064" y="7590"/>
                </a:cubicBezTo>
                <a:cubicBezTo>
                  <a:pt x="14105" y="7575"/>
                  <a:pt x="14383" y="7532"/>
                  <a:pt x="14238" y="7689"/>
                </a:cubicBezTo>
                <a:cubicBezTo>
                  <a:pt x="14112" y="7765"/>
                  <a:pt x="14069" y="7790"/>
                  <a:pt x="13965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3960" y="1241280"/>
            <a:ext cx="814320" cy="1758960"/>
          </a:xfrm>
          <a:custGeom>
            <a:avLst/>
            <a:gdLst/>
            <a:ahLst/>
            <a:rect l="l" t="t" r="r" b="b"/>
            <a:pathLst>
              <a:path w="2259" h="4887">
                <a:moveTo>
                  <a:pt x="11013" y="5259"/>
                </a:moveTo>
                <a:cubicBezTo>
                  <a:pt x="11088" y="5390"/>
                  <a:pt x="11198" y="5502"/>
                  <a:pt x="11261" y="5655"/>
                </a:cubicBezTo>
                <a:cubicBezTo>
                  <a:pt x="11269" y="5680"/>
                  <a:pt x="11278" y="5705"/>
                  <a:pt x="11286" y="5730"/>
                </a:cubicBezTo>
              </a:path>
              <a:path w="2259" h="4887">
                <a:moveTo>
                  <a:pt x="11336" y="5209"/>
                </a:moveTo>
                <a:cubicBezTo>
                  <a:pt x="11272" y="5386"/>
                  <a:pt x="11240" y="5585"/>
                  <a:pt x="11162" y="5755"/>
                </a:cubicBezTo>
                <a:cubicBezTo>
                  <a:pt x="11162" y="5747"/>
                  <a:pt x="11162" y="5738"/>
                  <a:pt x="11162" y="5730"/>
                </a:cubicBezTo>
              </a:path>
              <a:path w="2259" h="4887">
                <a:moveTo>
                  <a:pt x="11782" y="4589"/>
                </a:moveTo>
                <a:cubicBezTo>
                  <a:pt x="11844" y="4485"/>
                  <a:pt x="11994" y="4456"/>
                  <a:pt x="12105" y="4539"/>
                </a:cubicBezTo>
                <a:cubicBezTo>
                  <a:pt x="12299" y="4684"/>
                  <a:pt x="12209" y="4966"/>
                  <a:pt x="11981" y="5011"/>
                </a:cubicBezTo>
                <a:cubicBezTo>
                  <a:pt x="11867" y="5033"/>
                  <a:pt x="11820" y="4972"/>
                  <a:pt x="11832" y="4911"/>
                </a:cubicBezTo>
                <a:cubicBezTo>
                  <a:pt x="12004" y="4851"/>
                  <a:pt x="12061" y="4872"/>
                  <a:pt x="12229" y="4936"/>
                </a:cubicBezTo>
              </a:path>
              <a:path w="2259" h="4887">
                <a:moveTo>
                  <a:pt x="11708" y="5358"/>
                </a:moveTo>
                <a:cubicBezTo>
                  <a:pt x="11907" y="5338"/>
                  <a:pt x="12105" y="5289"/>
                  <a:pt x="12303" y="5259"/>
                </a:cubicBezTo>
                <a:cubicBezTo>
                  <a:pt x="12433" y="5239"/>
                  <a:pt x="12546" y="5234"/>
                  <a:pt x="12675" y="5234"/>
                </a:cubicBezTo>
              </a:path>
              <a:path w="2259" h="4887">
                <a:moveTo>
                  <a:pt x="12353" y="5581"/>
                </a:moveTo>
                <a:cubicBezTo>
                  <a:pt x="12227" y="5590"/>
                  <a:pt x="12107" y="5624"/>
                  <a:pt x="11981" y="5631"/>
                </a:cubicBezTo>
                <a:cubicBezTo>
                  <a:pt x="11936" y="5634"/>
                  <a:pt x="11909" y="5854"/>
                  <a:pt x="11906" y="5879"/>
                </a:cubicBezTo>
                <a:cubicBezTo>
                  <a:pt x="11906" y="5920"/>
                  <a:pt x="11906" y="5928"/>
                  <a:pt x="11906" y="5953"/>
                </a:cubicBezTo>
                <a:cubicBezTo>
                  <a:pt x="12031" y="5928"/>
                  <a:pt x="12167" y="5835"/>
                  <a:pt x="12303" y="5879"/>
                </a:cubicBezTo>
                <a:cubicBezTo>
                  <a:pt x="12581" y="5969"/>
                  <a:pt x="12212" y="6251"/>
                  <a:pt x="12105" y="6276"/>
                </a:cubicBezTo>
                <a:cubicBezTo>
                  <a:pt x="11970" y="6276"/>
                  <a:pt x="11948" y="6294"/>
                  <a:pt x="11881" y="6251"/>
                </a:cubicBezTo>
              </a:path>
              <a:path w="2259" h="4887">
                <a:moveTo>
                  <a:pt x="12402" y="4564"/>
                </a:moveTo>
                <a:cubicBezTo>
                  <a:pt x="12402" y="4556"/>
                  <a:pt x="12402" y="4547"/>
                  <a:pt x="12402" y="4539"/>
                </a:cubicBezTo>
                <a:cubicBezTo>
                  <a:pt x="12475" y="4524"/>
                  <a:pt x="12540" y="4484"/>
                  <a:pt x="12601" y="4440"/>
                </a:cubicBezTo>
              </a:path>
              <a:path w="2259" h="4887">
                <a:moveTo>
                  <a:pt x="12452" y="4167"/>
                </a:moveTo>
                <a:cubicBezTo>
                  <a:pt x="12452" y="4175"/>
                  <a:pt x="12452" y="4184"/>
                  <a:pt x="12452" y="4192"/>
                </a:cubicBezTo>
              </a:path>
              <a:path w="2259" h="4887">
                <a:moveTo>
                  <a:pt x="12551" y="4614"/>
                </a:moveTo>
                <a:cubicBezTo>
                  <a:pt x="12559" y="4614"/>
                  <a:pt x="12568" y="4614"/>
                  <a:pt x="12576" y="4614"/>
                </a:cubicBezTo>
              </a:path>
              <a:path w="2259" h="4887">
                <a:moveTo>
                  <a:pt x="12576" y="4614"/>
                </a:moveTo>
                <a:lnTo>
                  <a:pt x="12576" y="4614"/>
                </a:lnTo>
              </a:path>
              <a:path w="2259" h="4887">
                <a:moveTo>
                  <a:pt x="12725" y="4217"/>
                </a:moveTo>
                <a:cubicBezTo>
                  <a:pt x="12775" y="4175"/>
                  <a:pt x="12808" y="4142"/>
                  <a:pt x="12874" y="4142"/>
                </a:cubicBezTo>
                <a:cubicBezTo>
                  <a:pt x="12864" y="4307"/>
                  <a:pt x="12829" y="4394"/>
                  <a:pt x="12750" y="4539"/>
                </a:cubicBezTo>
                <a:cubicBezTo>
                  <a:pt x="12844" y="4517"/>
                  <a:pt x="13057" y="4430"/>
                  <a:pt x="13072" y="4415"/>
                </a:cubicBezTo>
              </a:path>
              <a:path w="2259" h="4887">
                <a:moveTo>
                  <a:pt x="11981" y="4862"/>
                </a:moveTo>
                <a:cubicBezTo>
                  <a:pt x="12399" y="4598"/>
                  <a:pt x="12857" y="4382"/>
                  <a:pt x="13271" y="4118"/>
                </a:cubicBezTo>
                <a:cubicBezTo>
                  <a:pt x="13271" y="4110"/>
                  <a:pt x="13271" y="4101"/>
                  <a:pt x="13271" y="4093"/>
                </a:cubicBezTo>
              </a:path>
              <a:path w="2259" h="4887">
                <a:moveTo>
                  <a:pt x="12378" y="3448"/>
                </a:moveTo>
                <a:cubicBezTo>
                  <a:pt x="12359" y="3640"/>
                  <a:pt x="12353" y="3824"/>
                  <a:pt x="12353" y="4018"/>
                </a:cubicBezTo>
              </a:path>
              <a:path w="2259" h="4887">
                <a:moveTo>
                  <a:pt x="11162" y="8334"/>
                </a:moveTo>
                <a:cubicBezTo>
                  <a:pt x="11383" y="8249"/>
                  <a:pt x="11552" y="8186"/>
                  <a:pt x="11782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7960" y="2751120"/>
            <a:ext cx="206280" cy="177840"/>
          </a:xfrm>
          <a:custGeom>
            <a:avLst/>
            <a:gdLst/>
            <a:ahLst/>
            <a:rect l="l" t="t" r="r" b="b"/>
            <a:pathLst>
              <a:path w="572" h="497">
                <a:moveTo>
                  <a:pt x="11162" y="7739"/>
                </a:moveTo>
                <a:cubicBezTo>
                  <a:pt x="11288" y="7672"/>
                  <a:pt x="11368" y="7653"/>
                  <a:pt x="11509" y="7640"/>
                </a:cubicBezTo>
                <a:cubicBezTo>
                  <a:pt x="11465" y="7846"/>
                  <a:pt x="11339" y="7965"/>
                  <a:pt x="11187" y="8111"/>
                </a:cubicBezTo>
                <a:cubicBezTo>
                  <a:pt x="11179" y="8119"/>
                  <a:pt x="11170" y="8128"/>
                  <a:pt x="11162" y="8136"/>
                </a:cubicBezTo>
                <a:cubicBezTo>
                  <a:pt x="11353" y="8079"/>
                  <a:pt x="11540" y="8013"/>
                  <a:pt x="11733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95840" y="2108160"/>
            <a:ext cx="3902040" cy="3402000"/>
          </a:xfrm>
          <a:custGeom>
            <a:avLst/>
            <a:gdLst/>
            <a:ahLst/>
            <a:rect l="l" t="t" r="r" b="b"/>
            <a:pathLst>
              <a:path w="10841" h="9451">
                <a:moveTo>
                  <a:pt x="10542" y="5854"/>
                </a:moveTo>
                <a:lnTo>
                  <a:pt x="10542" y="5854"/>
                </a:lnTo>
              </a:path>
              <a:path w="10841" h="9451">
                <a:moveTo>
                  <a:pt x="14908" y="7987"/>
                </a:moveTo>
                <a:cubicBezTo>
                  <a:pt x="15017" y="7963"/>
                  <a:pt x="15119" y="7945"/>
                  <a:pt x="15230" y="7938"/>
                </a:cubicBezTo>
              </a:path>
              <a:path w="10841" h="9451">
                <a:moveTo>
                  <a:pt x="15131" y="8111"/>
                </a:moveTo>
                <a:cubicBezTo>
                  <a:pt x="15197" y="8086"/>
                  <a:pt x="15263" y="8062"/>
                  <a:pt x="15329" y="8037"/>
                </a:cubicBezTo>
              </a:path>
              <a:path w="10841" h="9451">
                <a:moveTo>
                  <a:pt x="15329" y="8037"/>
                </a:moveTo>
                <a:lnTo>
                  <a:pt x="15329" y="8037"/>
                </a:lnTo>
              </a:path>
              <a:path w="10841" h="9451">
                <a:moveTo>
                  <a:pt x="18207" y="7441"/>
                </a:moveTo>
                <a:cubicBezTo>
                  <a:pt x="18348" y="7398"/>
                  <a:pt x="18529" y="7283"/>
                  <a:pt x="18529" y="7441"/>
                </a:cubicBezTo>
              </a:path>
              <a:path w="10841" h="9451">
                <a:moveTo>
                  <a:pt x="17859" y="8458"/>
                </a:moveTo>
                <a:cubicBezTo>
                  <a:pt x="17827" y="8491"/>
                  <a:pt x="17748" y="8643"/>
                  <a:pt x="17884" y="8657"/>
                </a:cubicBezTo>
                <a:cubicBezTo>
                  <a:pt x="18004" y="8627"/>
                  <a:pt x="18056" y="8609"/>
                  <a:pt x="18132" y="8558"/>
                </a:cubicBezTo>
              </a:path>
              <a:path w="10841" h="9451">
                <a:moveTo>
                  <a:pt x="18157" y="8682"/>
                </a:moveTo>
                <a:cubicBezTo>
                  <a:pt x="18157" y="8599"/>
                  <a:pt x="18263" y="8631"/>
                  <a:pt x="18331" y="8582"/>
                </a:cubicBezTo>
              </a:path>
              <a:path w="10841" h="9451">
                <a:moveTo>
                  <a:pt x="18306" y="8434"/>
                </a:moveTo>
                <a:lnTo>
                  <a:pt x="18306" y="8434"/>
                </a:lnTo>
                <a:lnTo>
                  <a:pt x="18306" y="8434"/>
                </a:lnTo>
              </a:path>
              <a:path w="10841" h="9451">
                <a:moveTo>
                  <a:pt x="18306" y="8434"/>
                </a:moveTo>
                <a:lnTo>
                  <a:pt x="18306" y="8434"/>
                </a:lnTo>
              </a:path>
              <a:path w="10841" h="9451">
                <a:moveTo>
                  <a:pt x="18355" y="8731"/>
                </a:moveTo>
                <a:cubicBezTo>
                  <a:pt x="18363" y="8731"/>
                  <a:pt x="18372" y="8731"/>
                  <a:pt x="18380" y="8731"/>
                </a:cubicBezTo>
              </a:path>
              <a:path w="10841" h="9451">
                <a:moveTo>
                  <a:pt x="17959" y="8706"/>
                </a:moveTo>
                <a:cubicBezTo>
                  <a:pt x="18276" y="8631"/>
                  <a:pt x="18576" y="8563"/>
                  <a:pt x="18901" y="8533"/>
                </a:cubicBezTo>
              </a:path>
              <a:path w="10841" h="9451">
                <a:moveTo>
                  <a:pt x="18901" y="7739"/>
                </a:moveTo>
                <a:cubicBezTo>
                  <a:pt x="18909" y="7731"/>
                  <a:pt x="18918" y="7722"/>
                  <a:pt x="18926" y="7714"/>
                </a:cubicBezTo>
              </a:path>
              <a:path w="10841" h="9451">
                <a:moveTo>
                  <a:pt x="19298" y="7888"/>
                </a:moveTo>
                <a:cubicBezTo>
                  <a:pt x="19476" y="7888"/>
                  <a:pt x="19553" y="7879"/>
                  <a:pt x="19670" y="7813"/>
                </a:cubicBezTo>
              </a:path>
              <a:path w="10841" h="9451">
                <a:moveTo>
                  <a:pt x="19670" y="7813"/>
                </a:moveTo>
                <a:lnTo>
                  <a:pt x="19670" y="7813"/>
                </a:lnTo>
              </a:path>
              <a:path w="10841" h="9451">
                <a:moveTo>
                  <a:pt x="20762" y="6970"/>
                </a:moveTo>
                <a:cubicBezTo>
                  <a:pt x="20880" y="6865"/>
                  <a:pt x="21085" y="6815"/>
                  <a:pt x="21258" y="6846"/>
                </a:cubicBezTo>
                <a:cubicBezTo>
                  <a:pt x="21299" y="6863"/>
                  <a:pt x="21341" y="6879"/>
                  <a:pt x="21382" y="6896"/>
                </a:cubicBezTo>
              </a:path>
              <a:path w="10841" h="9451">
                <a:moveTo>
                  <a:pt x="12898" y="11410"/>
                </a:moveTo>
                <a:cubicBezTo>
                  <a:pt x="12798" y="11583"/>
                  <a:pt x="12702" y="11759"/>
                  <a:pt x="12601" y="11931"/>
                </a:cubicBezTo>
              </a:path>
              <a:path w="10841" h="9451">
                <a:moveTo>
                  <a:pt x="10988" y="13618"/>
                </a:moveTo>
                <a:cubicBezTo>
                  <a:pt x="11167" y="13633"/>
                  <a:pt x="11422" y="13685"/>
                  <a:pt x="11336" y="13940"/>
                </a:cubicBezTo>
                <a:cubicBezTo>
                  <a:pt x="11264" y="14151"/>
                  <a:pt x="11020" y="14179"/>
                  <a:pt x="10889" y="14064"/>
                </a:cubicBezTo>
                <a:cubicBezTo>
                  <a:pt x="11060" y="13974"/>
                  <a:pt x="11144" y="13915"/>
                  <a:pt x="11311" y="14064"/>
                </a:cubicBezTo>
                <a:cubicBezTo>
                  <a:pt x="11328" y="14081"/>
                  <a:pt x="11344" y="14097"/>
                  <a:pt x="11361" y="14114"/>
                </a:cubicBezTo>
              </a:path>
              <a:path w="10841" h="9451">
                <a:moveTo>
                  <a:pt x="11633" y="13618"/>
                </a:moveTo>
                <a:cubicBezTo>
                  <a:pt x="11603" y="13642"/>
                  <a:pt x="11384" y="13925"/>
                  <a:pt x="11534" y="13866"/>
                </a:cubicBezTo>
                <a:cubicBezTo>
                  <a:pt x="11662" y="13789"/>
                  <a:pt x="11707" y="13761"/>
                  <a:pt x="11782" y="13692"/>
                </a:cubicBezTo>
                <a:cubicBezTo>
                  <a:pt x="11790" y="13692"/>
                  <a:pt x="11799" y="13692"/>
                  <a:pt x="11807" y="13692"/>
                </a:cubicBezTo>
                <a:cubicBezTo>
                  <a:pt x="11764" y="13874"/>
                  <a:pt x="11761" y="14055"/>
                  <a:pt x="11733" y="14238"/>
                </a:cubicBezTo>
              </a:path>
              <a:path w="10841" h="9451">
                <a:moveTo>
                  <a:pt x="10765" y="14486"/>
                </a:moveTo>
                <a:cubicBezTo>
                  <a:pt x="11153" y="14408"/>
                  <a:pt x="11557" y="14305"/>
                  <a:pt x="11956" y="14312"/>
                </a:cubicBezTo>
                <a:cubicBezTo>
                  <a:pt x="12034" y="14338"/>
                  <a:pt x="12055" y="14349"/>
                  <a:pt x="11956" y="14387"/>
                </a:cubicBezTo>
              </a:path>
              <a:path w="10841" h="9451">
                <a:moveTo>
                  <a:pt x="11435" y="14709"/>
                </a:moveTo>
                <a:cubicBezTo>
                  <a:pt x="11412" y="14845"/>
                  <a:pt x="11358" y="14990"/>
                  <a:pt x="11361" y="15131"/>
                </a:cubicBezTo>
                <a:cubicBezTo>
                  <a:pt x="11365" y="15372"/>
                  <a:pt x="11554" y="15320"/>
                  <a:pt x="11658" y="15156"/>
                </a:cubicBezTo>
                <a:cubicBezTo>
                  <a:pt x="11675" y="15106"/>
                  <a:pt x="11691" y="15057"/>
                  <a:pt x="11708" y="15007"/>
                </a:cubicBezTo>
                <a:cubicBezTo>
                  <a:pt x="11708" y="14990"/>
                  <a:pt x="11708" y="14974"/>
                  <a:pt x="11708" y="14957"/>
                </a:cubicBezTo>
                <a:cubicBezTo>
                  <a:pt x="11589" y="14993"/>
                  <a:pt x="11476" y="15077"/>
                  <a:pt x="11509" y="15230"/>
                </a:cubicBezTo>
                <a:cubicBezTo>
                  <a:pt x="11517" y="15230"/>
                  <a:pt x="11526" y="15230"/>
                  <a:pt x="11534" y="15230"/>
                </a:cubicBezTo>
              </a:path>
              <a:path w="10841" h="9451">
                <a:moveTo>
                  <a:pt x="12452" y="14486"/>
                </a:moveTo>
                <a:cubicBezTo>
                  <a:pt x="12529" y="14631"/>
                  <a:pt x="12487" y="14908"/>
                  <a:pt x="12650" y="14932"/>
                </a:cubicBezTo>
                <a:cubicBezTo>
                  <a:pt x="12690" y="14854"/>
                  <a:pt x="12703" y="14807"/>
                  <a:pt x="12700" y="14734"/>
                </a:cubicBezTo>
              </a:path>
              <a:path w="10841" h="9451">
                <a:moveTo>
                  <a:pt x="14288" y="12229"/>
                </a:moveTo>
                <a:cubicBezTo>
                  <a:pt x="14196" y="12302"/>
                  <a:pt x="14183" y="12305"/>
                  <a:pt x="14139" y="12353"/>
                </a:cubicBezTo>
              </a:path>
              <a:path w="10841" h="9451">
                <a:moveTo>
                  <a:pt x="14139" y="12353"/>
                </a:moveTo>
                <a:lnTo>
                  <a:pt x="14139" y="12353"/>
                </a:lnTo>
              </a:path>
              <a:path w="10841" h="9451">
                <a:moveTo>
                  <a:pt x="14362" y="10666"/>
                </a:moveTo>
                <a:cubicBezTo>
                  <a:pt x="14478" y="10666"/>
                  <a:pt x="14528" y="10663"/>
                  <a:pt x="14610" y="10641"/>
                </a:cubicBezTo>
              </a:path>
              <a:path w="10841" h="9451">
                <a:moveTo>
                  <a:pt x="16396" y="13543"/>
                </a:moveTo>
                <a:cubicBezTo>
                  <a:pt x="16525" y="13580"/>
                  <a:pt x="16647" y="13668"/>
                  <a:pt x="16669" y="13816"/>
                </a:cubicBezTo>
                <a:cubicBezTo>
                  <a:pt x="16692" y="13973"/>
                  <a:pt x="16554" y="13908"/>
                  <a:pt x="16495" y="13891"/>
                </a:cubicBezTo>
              </a:path>
              <a:path w="10841" h="9451">
                <a:moveTo>
                  <a:pt x="16495" y="13370"/>
                </a:moveTo>
                <a:cubicBezTo>
                  <a:pt x="16629" y="13364"/>
                  <a:pt x="16758" y="13351"/>
                  <a:pt x="16892" y="13345"/>
                </a:cubicBezTo>
              </a:path>
              <a:path w="10841" h="9451">
                <a:moveTo>
                  <a:pt x="20638" y="15056"/>
                </a:moveTo>
                <a:cubicBezTo>
                  <a:pt x="20769" y="15004"/>
                  <a:pt x="20818" y="14985"/>
                  <a:pt x="20910" y="14957"/>
                </a:cubicBezTo>
              </a:path>
              <a:path w="10841" h="9451">
                <a:moveTo>
                  <a:pt x="20910" y="14957"/>
                </a:moveTo>
                <a:lnTo>
                  <a:pt x="20910" y="1495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70240" y="418788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1658" y="11633"/>
                </a:moveTo>
                <a:cubicBezTo>
                  <a:pt x="11633" y="11756"/>
                  <a:pt x="11581" y="11900"/>
                  <a:pt x="11584" y="12030"/>
                </a:cubicBezTo>
                <a:cubicBezTo>
                  <a:pt x="11592" y="12063"/>
                  <a:pt x="11601" y="12096"/>
                  <a:pt x="11609" y="12129"/>
                </a:cubicBezTo>
                <a:cubicBezTo>
                  <a:pt x="11759" y="12143"/>
                  <a:pt x="11928" y="12051"/>
                  <a:pt x="11981" y="11881"/>
                </a:cubicBezTo>
                <a:cubicBezTo>
                  <a:pt x="11973" y="11865"/>
                  <a:pt x="11964" y="11848"/>
                  <a:pt x="11956" y="11832"/>
                </a:cubicBezTo>
                <a:cubicBezTo>
                  <a:pt x="11938" y="11840"/>
                  <a:pt x="11631" y="12083"/>
                  <a:pt x="11733" y="12105"/>
                </a:cubicBezTo>
                <a:cubicBezTo>
                  <a:pt x="11774" y="12097"/>
                  <a:pt x="11816" y="12088"/>
                  <a:pt x="11857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2920" y="2108160"/>
            <a:ext cx="2446200" cy="3089160"/>
          </a:xfrm>
          <a:custGeom>
            <a:avLst/>
            <a:gdLst/>
            <a:ahLst/>
            <a:rect l="l" t="t" r="r" b="b"/>
            <a:pathLst>
              <a:path w="6798" h="8583">
                <a:moveTo>
                  <a:pt x="10170" y="6251"/>
                </a:moveTo>
                <a:cubicBezTo>
                  <a:pt x="10119" y="6251"/>
                  <a:pt x="10366" y="6143"/>
                  <a:pt x="10393" y="6127"/>
                </a:cubicBezTo>
              </a:path>
              <a:path w="6798" h="8583">
                <a:moveTo>
                  <a:pt x="10393" y="5854"/>
                </a:moveTo>
                <a:cubicBezTo>
                  <a:pt x="10451" y="5854"/>
                  <a:pt x="10492" y="5854"/>
                  <a:pt x="10542" y="5854"/>
                </a:cubicBezTo>
              </a:path>
              <a:path w="6798" h="8583">
                <a:moveTo>
                  <a:pt x="12774" y="11410"/>
                </a:moveTo>
                <a:cubicBezTo>
                  <a:pt x="12835" y="11531"/>
                  <a:pt x="12883" y="11643"/>
                  <a:pt x="12973" y="11733"/>
                </a:cubicBezTo>
              </a:path>
              <a:path w="6798" h="8583">
                <a:moveTo>
                  <a:pt x="13667" y="11361"/>
                </a:moveTo>
                <a:cubicBezTo>
                  <a:pt x="13842" y="11260"/>
                  <a:pt x="14032" y="11368"/>
                  <a:pt x="14064" y="11584"/>
                </a:cubicBezTo>
                <a:cubicBezTo>
                  <a:pt x="14109" y="11888"/>
                  <a:pt x="13771" y="11903"/>
                  <a:pt x="13593" y="11857"/>
                </a:cubicBezTo>
                <a:cubicBezTo>
                  <a:pt x="13669" y="11657"/>
                  <a:pt x="13845" y="11727"/>
                  <a:pt x="14039" y="11832"/>
                </a:cubicBezTo>
                <a:cubicBezTo>
                  <a:pt x="14069" y="11862"/>
                  <a:pt x="14080" y="11864"/>
                  <a:pt x="14089" y="11807"/>
                </a:cubicBezTo>
              </a:path>
              <a:path w="6798" h="8583">
                <a:moveTo>
                  <a:pt x="14734" y="10914"/>
                </a:moveTo>
                <a:cubicBezTo>
                  <a:pt x="14739" y="11066"/>
                  <a:pt x="14751" y="11215"/>
                  <a:pt x="14734" y="11361"/>
                </a:cubicBezTo>
              </a:path>
              <a:path w="6798" h="8583">
                <a:moveTo>
                  <a:pt x="14536" y="11534"/>
                </a:moveTo>
                <a:cubicBezTo>
                  <a:pt x="14740" y="11489"/>
                  <a:pt x="14904" y="11452"/>
                  <a:pt x="15106" y="11460"/>
                </a:cubicBezTo>
              </a:path>
              <a:path w="6798" h="8583">
                <a:moveTo>
                  <a:pt x="14635" y="11708"/>
                </a:moveTo>
                <a:cubicBezTo>
                  <a:pt x="14769" y="11757"/>
                  <a:pt x="14978" y="11787"/>
                  <a:pt x="14982" y="11981"/>
                </a:cubicBezTo>
                <a:cubicBezTo>
                  <a:pt x="14985" y="12119"/>
                  <a:pt x="14643" y="12253"/>
                  <a:pt x="14610" y="12154"/>
                </a:cubicBezTo>
                <a:cubicBezTo>
                  <a:pt x="14560" y="12006"/>
                  <a:pt x="14910" y="12184"/>
                  <a:pt x="14932" y="12204"/>
                </a:cubicBezTo>
              </a:path>
              <a:path w="6798" h="8583">
                <a:moveTo>
                  <a:pt x="14238" y="12129"/>
                </a:moveTo>
                <a:cubicBezTo>
                  <a:pt x="14253" y="12190"/>
                  <a:pt x="14314" y="12238"/>
                  <a:pt x="14337" y="12303"/>
                </a:cubicBezTo>
                <a:cubicBezTo>
                  <a:pt x="14337" y="12311"/>
                  <a:pt x="14337" y="12320"/>
                  <a:pt x="14337" y="12328"/>
                </a:cubicBezTo>
              </a:path>
              <a:path w="6798" h="8583">
                <a:moveTo>
                  <a:pt x="14436" y="10592"/>
                </a:moveTo>
                <a:cubicBezTo>
                  <a:pt x="14436" y="10675"/>
                  <a:pt x="14436" y="10757"/>
                  <a:pt x="14436" y="10840"/>
                </a:cubicBezTo>
              </a:path>
              <a:path w="6798" h="8583">
                <a:moveTo>
                  <a:pt x="15553" y="14436"/>
                </a:moveTo>
                <a:cubicBezTo>
                  <a:pt x="15876" y="14414"/>
                  <a:pt x="16197" y="14364"/>
                  <a:pt x="16520" y="14337"/>
                </a:cubicBezTo>
                <a:cubicBezTo>
                  <a:pt x="16748" y="14318"/>
                  <a:pt x="16885" y="14242"/>
                  <a:pt x="16917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99040" y="2928960"/>
            <a:ext cx="936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14188" y="8136"/>
                </a:moveTo>
                <a:cubicBezTo>
                  <a:pt x="14180" y="8205"/>
                  <a:pt x="14105" y="8647"/>
                  <a:pt x="14163" y="8682"/>
                </a:cubicBezTo>
                <a:cubicBezTo>
                  <a:pt x="14171" y="8665"/>
                  <a:pt x="14180" y="8649"/>
                  <a:pt x="14188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3040" y="2419200"/>
            <a:ext cx="722160" cy="723960"/>
          </a:xfrm>
          <a:custGeom>
            <a:avLst/>
            <a:gdLst/>
            <a:ahLst/>
            <a:rect l="l" t="t" r="r" b="b"/>
            <a:pathLst>
              <a:path w="2010" h="2010">
                <a:moveTo>
                  <a:pt x="17562" y="8161"/>
                </a:moveTo>
                <a:cubicBezTo>
                  <a:pt x="17834" y="8129"/>
                  <a:pt x="18103" y="8077"/>
                  <a:pt x="18380" y="8062"/>
                </a:cubicBezTo>
                <a:cubicBezTo>
                  <a:pt x="18446" y="8059"/>
                  <a:pt x="18595" y="8062"/>
                  <a:pt x="18529" y="8062"/>
                </a:cubicBezTo>
              </a:path>
              <a:path w="2010" h="2010">
                <a:moveTo>
                  <a:pt x="18604" y="8434"/>
                </a:moveTo>
                <a:cubicBezTo>
                  <a:pt x="18653" y="8434"/>
                  <a:pt x="18703" y="8434"/>
                  <a:pt x="18752" y="8434"/>
                </a:cubicBezTo>
                <a:cubicBezTo>
                  <a:pt x="18739" y="8522"/>
                  <a:pt x="18608" y="8671"/>
                  <a:pt x="18604" y="8706"/>
                </a:cubicBezTo>
                <a:cubicBezTo>
                  <a:pt x="18596" y="8775"/>
                  <a:pt x="18726" y="8697"/>
                  <a:pt x="18752" y="8682"/>
                </a:cubicBezTo>
              </a:path>
              <a:path w="2010" h="2010">
                <a:moveTo>
                  <a:pt x="18752" y="7590"/>
                </a:moveTo>
                <a:cubicBezTo>
                  <a:pt x="18852" y="7551"/>
                  <a:pt x="18942" y="7444"/>
                  <a:pt x="19025" y="7367"/>
                </a:cubicBezTo>
              </a:path>
              <a:path w="2010" h="2010">
                <a:moveTo>
                  <a:pt x="19124" y="7342"/>
                </a:moveTo>
                <a:cubicBezTo>
                  <a:pt x="19131" y="7332"/>
                  <a:pt x="19287" y="7231"/>
                  <a:pt x="19273" y="7317"/>
                </a:cubicBezTo>
                <a:cubicBezTo>
                  <a:pt x="19246" y="7371"/>
                  <a:pt x="19234" y="7391"/>
                  <a:pt x="19199" y="7417"/>
                </a:cubicBezTo>
                <a:cubicBezTo>
                  <a:pt x="19385" y="7417"/>
                  <a:pt x="19359" y="7405"/>
                  <a:pt x="19248" y="7565"/>
                </a:cubicBezTo>
              </a:path>
              <a:path w="2010" h="2010">
                <a:moveTo>
                  <a:pt x="17959" y="7863"/>
                </a:moveTo>
                <a:cubicBezTo>
                  <a:pt x="18357" y="7675"/>
                  <a:pt x="18748" y="7474"/>
                  <a:pt x="19149" y="7293"/>
                </a:cubicBezTo>
                <a:cubicBezTo>
                  <a:pt x="19239" y="7257"/>
                  <a:pt x="19244" y="7240"/>
                  <a:pt x="19298" y="7243"/>
                </a:cubicBezTo>
              </a:path>
              <a:path w="2010" h="2010">
                <a:moveTo>
                  <a:pt x="18306" y="6722"/>
                </a:moveTo>
                <a:cubicBezTo>
                  <a:pt x="18279" y="6857"/>
                  <a:pt x="18282" y="6823"/>
                  <a:pt x="18430" y="6871"/>
                </a:cubicBezTo>
                <a:cubicBezTo>
                  <a:pt x="18628" y="6936"/>
                  <a:pt x="18446" y="6987"/>
                  <a:pt x="18331" y="7045"/>
                </a:cubicBezTo>
              </a:path>
              <a:path w="2010" h="2010">
                <a:moveTo>
                  <a:pt x="19224" y="7739"/>
                </a:moveTo>
                <a:cubicBezTo>
                  <a:pt x="19341" y="7739"/>
                  <a:pt x="19454" y="7721"/>
                  <a:pt x="19571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9040" y="2490840"/>
            <a:ext cx="125280" cy="179280"/>
          </a:xfrm>
          <a:custGeom>
            <a:avLst/>
            <a:gdLst/>
            <a:ahLst/>
            <a:rect l="l" t="t" r="r" b="b"/>
            <a:pathLst>
              <a:path w="349" h="497">
                <a:moveTo>
                  <a:pt x="20762" y="6921"/>
                </a:moveTo>
                <a:cubicBezTo>
                  <a:pt x="20732" y="6975"/>
                  <a:pt x="20702" y="7022"/>
                  <a:pt x="20662" y="7069"/>
                </a:cubicBezTo>
                <a:cubicBezTo>
                  <a:pt x="20802" y="7134"/>
                  <a:pt x="20912" y="7141"/>
                  <a:pt x="21010" y="7268"/>
                </a:cubicBezTo>
                <a:cubicBezTo>
                  <a:pt x="20860" y="7417"/>
                  <a:pt x="20895" y="7431"/>
                  <a:pt x="20737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7040" y="1544760"/>
            <a:ext cx="3294000" cy="3840120"/>
          </a:xfrm>
          <a:custGeom>
            <a:avLst/>
            <a:gdLst/>
            <a:ahLst/>
            <a:rect l="l" t="t" r="r" b="b"/>
            <a:pathLst>
              <a:path w="9154" h="10667">
                <a:moveTo>
                  <a:pt x="15925" y="8037"/>
                </a:moveTo>
                <a:cubicBezTo>
                  <a:pt x="16104" y="7995"/>
                  <a:pt x="16262" y="7970"/>
                  <a:pt x="16446" y="7962"/>
                </a:cubicBezTo>
              </a:path>
              <a:path w="9154" h="10667">
                <a:moveTo>
                  <a:pt x="16942" y="8235"/>
                </a:moveTo>
                <a:lnTo>
                  <a:pt x="16942" y="8235"/>
                </a:lnTo>
              </a:path>
              <a:path w="9154" h="10667">
                <a:moveTo>
                  <a:pt x="16197" y="7094"/>
                </a:moveTo>
                <a:cubicBezTo>
                  <a:pt x="16214" y="7119"/>
                  <a:pt x="16230" y="7144"/>
                  <a:pt x="16247" y="7169"/>
                </a:cubicBezTo>
              </a:path>
              <a:path w="9154" h="10667">
                <a:moveTo>
                  <a:pt x="16247" y="7169"/>
                </a:moveTo>
                <a:lnTo>
                  <a:pt x="16247" y="7169"/>
                </a:lnTo>
              </a:path>
              <a:path w="9154" h="10667">
                <a:moveTo>
                  <a:pt x="16396" y="7491"/>
                </a:moveTo>
                <a:cubicBezTo>
                  <a:pt x="16404" y="7491"/>
                  <a:pt x="16413" y="7491"/>
                  <a:pt x="16421" y="7491"/>
                </a:cubicBezTo>
              </a:path>
              <a:path w="9154" h="10667">
                <a:moveTo>
                  <a:pt x="16446" y="8880"/>
                </a:moveTo>
                <a:cubicBezTo>
                  <a:pt x="16521" y="8888"/>
                  <a:pt x="16593" y="8899"/>
                  <a:pt x="16669" y="8905"/>
                </a:cubicBezTo>
              </a:path>
              <a:path w="9154" h="10667">
                <a:moveTo>
                  <a:pt x="16470" y="8632"/>
                </a:moveTo>
                <a:cubicBezTo>
                  <a:pt x="16462" y="8665"/>
                  <a:pt x="16454" y="8698"/>
                  <a:pt x="16446" y="8731"/>
                </a:cubicBezTo>
              </a:path>
              <a:path w="9154" h="10667">
                <a:moveTo>
                  <a:pt x="16470" y="8979"/>
                </a:moveTo>
                <a:lnTo>
                  <a:pt x="16470" y="8979"/>
                </a:lnTo>
                <a:lnTo>
                  <a:pt x="16470" y="8979"/>
                </a:lnTo>
                <a:lnTo>
                  <a:pt x="16470" y="8979"/>
                </a:lnTo>
              </a:path>
              <a:path w="9154" h="10667">
                <a:moveTo>
                  <a:pt x="16470" y="8979"/>
                </a:moveTo>
                <a:lnTo>
                  <a:pt x="16470" y="8979"/>
                </a:lnTo>
              </a:path>
              <a:path w="9154" h="10667">
                <a:moveTo>
                  <a:pt x="18182" y="6672"/>
                </a:moveTo>
                <a:cubicBezTo>
                  <a:pt x="18442" y="6586"/>
                  <a:pt x="18630" y="6570"/>
                  <a:pt x="18901" y="6598"/>
                </a:cubicBezTo>
              </a:path>
              <a:path w="9154" h="10667">
                <a:moveTo>
                  <a:pt x="14709" y="6697"/>
                </a:moveTo>
                <a:cubicBezTo>
                  <a:pt x="15243" y="6723"/>
                  <a:pt x="15690" y="6682"/>
                  <a:pt x="16173" y="6424"/>
                </a:cubicBezTo>
                <a:cubicBezTo>
                  <a:pt x="16653" y="6167"/>
                  <a:pt x="17047" y="5544"/>
                  <a:pt x="16768" y="4986"/>
                </a:cubicBezTo>
                <a:cubicBezTo>
                  <a:pt x="16309" y="4068"/>
                  <a:pt x="14685" y="4042"/>
                  <a:pt x="14263" y="5011"/>
                </a:cubicBezTo>
                <a:cubicBezTo>
                  <a:pt x="13889" y="5868"/>
                  <a:pt x="14345" y="6386"/>
                  <a:pt x="15007" y="6722"/>
                </a:cubicBezTo>
              </a:path>
              <a:path w="9154" h="10667">
                <a:moveTo>
                  <a:pt x="11212" y="11410"/>
                </a:moveTo>
                <a:cubicBezTo>
                  <a:pt x="11482" y="11341"/>
                  <a:pt x="11802" y="11212"/>
                  <a:pt x="12080" y="11286"/>
                </a:cubicBezTo>
                <a:cubicBezTo>
                  <a:pt x="12124" y="11331"/>
                  <a:pt x="12140" y="11341"/>
                  <a:pt x="12129" y="11385"/>
                </a:cubicBezTo>
              </a:path>
              <a:path w="9154" h="10667">
                <a:moveTo>
                  <a:pt x="12626" y="14560"/>
                </a:moveTo>
                <a:cubicBezTo>
                  <a:pt x="12557" y="14684"/>
                  <a:pt x="12491" y="14805"/>
                  <a:pt x="12427" y="14932"/>
                </a:cubicBezTo>
              </a:path>
              <a:path w="9154" h="10667">
                <a:moveTo>
                  <a:pt x="18479" y="13692"/>
                </a:moveTo>
                <a:cubicBezTo>
                  <a:pt x="18497" y="13816"/>
                  <a:pt x="18519" y="13940"/>
                  <a:pt x="18529" y="14064"/>
                </a:cubicBezTo>
              </a:path>
              <a:path w="9154" h="10667">
                <a:moveTo>
                  <a:pt x="19447" y="14288"/>
                </a:moveTo>
                <a:cubicBezTo>
                  <a:pt x="19459" y="14404"/>
                  <a:pt x="19487" y="14518"/>
                  <a:pt x="19496" y="14635"/>
                </a:cubicBezTo>
              </a:path>
              <a:path w="9154" h="10667">
                <a:moveTo>
                  <a:pt x="19447" y="14957"/>
                </a:moveTo>
                <a:cubicBezTo>
                  <a:pt x="19765" y="14918"/>
                  <a:pt x="20047" y="14892"/>
                  <a:pt x="20365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75160" y="1598760"/>
            <a:ext cx="492120" cy="588960"/>
          </a:xfrm>
          <a:custGeom>
            <a:avLst/>
            <a:gdLst/>
            <a:ahLst/>
            <a:rect l="l" t="t" r="r" b="b"/>
            <a:pathLst>
              <a:path w="1366" h="1638">
                <a:moveTo>
                  <a:pt x="15850" y="4440"/>
                </a:moveTo>
                <a:cubicBezTo>
                  <a:pt x="15831" y="4613"/>
                  <a:pt x="15793" y="4792"/>
                  <a:pt x="15751" y="4961"/>
                </a:cubicBezTo>
                <a:cubicBezTo>
                  <a:pt x="15732" y="5018"/>
                  <a:pt x="15723" y="5025"/>
                  <a:pt x="15726" y="5060"/>
                </a:cubicBezTo>
              </a:path>
              <a:path w="1366" h="1638">
                <a:moveTo>
                  <a:pt x="15230" y="5159"/>
                </a:moveTo>
                <a:cubicBezTo>
                  <a:pt x="15559" y="5100"/>
                  <a:pt x="15939" y="4967"/>
                  <a:pt x="16272" y="4986"/>
                </a:cubicBezTo>
                <a:cubicBezTo>
                  <a:pt x="16280" y="4994"/>
                  <a:pt x="16289" y="5003"/>
                  <a:pt x="16297" y="5011"/>
                </a:cubicBezTo>
              </a:path>
              <a:path w="1366" h="1638">
                <a:moveTo>
                  <a:pt x="15156" y="5531"/>
                </a:moveTo>
                <a:cubicBezTo>
                  <a:pt x="15108" y="5698"/>
                  <a:pt x="15031" y="5867"/>
                  <a:pt x="14957" y="6028"/>
                </a:cubicBezTo>
                <a:cubicBezTo>
                  <a:pt x="14949" y="6044"/>
                  <a:pt x="14940" y="6061"/>
                  <a:pt x="14932" y="6077"/>
                </a:cubicBezTo>
              </a:path>
              <a:path w="1366" h="1638">
                <a:moveTo>
                  <a:pt x="15553" y="5432"/>
                </a:moveTo>
                <a:cubicBezTo>
                  <a:pt x="15431" y="5656"/>
                  <a:pt x="15269" y="5841"/>
                  <a:pt x="15429" y="6052"/>
                </a:cubicBezTo>
                <a:cubicBezTo>
                  <a:pt x="15534" y="5961"/>
                  <a:pt x="15953" y="5595"/>
                  <a:pt x="15602" y="5531"/>
                </a:cubicBezTo>
                <a:cubicBezTo>
                  <a:pt x="15552" y="5539"/>
                  <a:pt x="15503" y="5548"/>
                  <a:pt x="15453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1800" y="2463840"/>
            <a:ext cx="946080" cy="957240"/>
          </a:xfrm>
          <a:custGeom>
            <a:avLst/>
            <a:gdLst/>
            <a:ahLst/>
            <a:rect l="l" t="t" r="r" b="b"/>
            <a:pathLst>
              <a:path w="2630" h="2655">
                <a:moveTo>
                  <a:pt x="15900" y="7417"/>
                </a:moveTo>
                <a:cubicBezTo>
                  <a:pt x="15973" y="7394"/>
                  <a:pt x="16219" y="7298"/>
                  <a:pt x="16173" y="7491"/>
                </a:cubicBezTo>
                <a:cubicBezTo>
                  <a:pt x="16146" y="7603"/>
                  <a:pt x="16023" y="7707"/>
                  <a:pt x="15949" y="7789"/>
                </a:cubicBezTo>
                <a:cubicBezTo>
                  <a:pt x="16098" y="7774"/>
                  <a:pt x="16244" y="7746"/>
                  <a:pt x="16396" y="7739"/>
                </a:cubicBezTo>
              </a:path>
              <a:path w="2630" h="2655">
                <a:moveTo>
                  <a:pt x="15949" y="8285"/>
                </a:moveTo>
                <a:cubicBezTo>
                  <a:pt x="16100" y="8275"/>
                  <a:pt x="16254" y="8236"/>
                  <a:pt x="16396" y="8260"/>
                </a:cubicBezTo>
                <a:cubicBezTo>
                  <a:pt x="16308" y="8341"/>
                  <a:pt x="16220" y="8414"/>
                  <a:pt x="16123" y="8483"/>
                </a:cubicBezTo>
                <a:cubicBezTo>
                  <a:pt x="16209" y="8483"/>
                  <a:pt x="16477" y="8442"/>
                  <a:pt x="16421" y="8607"/>
                </a:cubicBezTo>
                <a:cubicBezTo>
                  <a:pt x="16367" y="8765"/>
                  <a:pt x="16148" y="8764"/>
                  <a:pt x="16024" y="8781"/>
                </a:cubicBezTo>
              </a:path>
              <a:path w="2630" h="2655">
                <a:moveTo>
                  <a:pt x="17016" y="7863"/>
                </a:moveTo>
                <a:cubicBezTo>
                  <a:pt x="17134" y="7981"/>
                  <a:pt x="17296" y="8362"/>
                  <a:pt x="17363" y="8210"/>
                </a:cubicBezTo>
                <a:cubicBezTo>
                  <a:pt x="17363" y="8185"/>
                  <a:pt x="17363" y="8161"/>
                  <a:pt x="17363" y="8136"/>
                </a:cubicBezTo>
              </a:path>
              <a:path w="2630" h="2655">
                <a:moveTo>
                  <a:pt x="17314" y="7813"/>
                </a:moveTo>
                <a:cubicBezTo>
                  <a:pt x="17192" y="7962"/>
                  <a:pt x="17080" y="8105"/>
                  <a:pt x="16942" y="8235"/>
                </a:cubicBezTo>
              </a:path>
              <a:path w="2630" h="2655">
                <a:moveTo>
                  <a:pt x="18132" y="8359"/>
                </a:moveTo>
                <a:cubicBezTo>
                  <a:pt x="18057" y="8519"/>
                  <a:pt x="18027" y="8729"/>
                  <a:pt x="17934" y="8880"/>
                </a:cubicBezTo>
                <a:cubicBezTo>
                  <a:pt x="17926" y="8880"/>
                  <a:pt x="17917" y="8880"/>
                  <a:pt x="17909" y="8880"/>
                </a:cubicBezTo>
              </a:path>
              <a:path w="2630" h="2655">
                <a:moveTo>
                  <a:pt x="15801" y="7491"/>
                </a:moveTo>
                <a:cubicBezTo>
                  <a:pt x="15980" y="7465"/>
                  <a:pt x="16092" y="7725"/>
                  <a:pt x="16222" y="7838"/>
                </a:cubicBezTo>
                <a:cubicBezTo>
                  <a:pt x="16332" y="7934"/>
                  <a:pt x="16381" y="7989"/>
                  <a:pt x="16446" y="7938"/>
                </a:cubicBezTo>
              </a:path>
              <a:path w="2630" h="2655">
                <a:moveTo>
                  <a:pt x="16197" y="7342"/>
                </a:moveTo>
                <a:cubicBezTo>
                  <a:pt x="16259" y="7301"/>
                  <a:pt x="16334" y="7285"/>
                  <a:pt x="16396" y="7243"/>
                </a:cubicBezTo>
              </a:path>
              <a:path w="2630" h="2655">
                <a:moveTo>
                  <a:pt x="16520" y="7119"/>
                </a:moveTo>
                <a:cubicBezTo>
                  <a:pt x="16583" y="7076"/>
                  <a:pt x="16595" y="7060"/>
                  <a:pt x="16644" y="7069"/>
                </a:cubicBezTo>
                <a:cubicBezTo>
                  <a:pt x="16637" y="7159"/>
                  <a:pt x="16621" y="7231"/>
                  <a:pt x="16594" y="7317"/>
                </a:cubicBezTo>
                <a:cubicBezTo>
                  <a:pt x="16737" y="7301"/>
                  <a:pt x="16780" y="7282"/>
                  <a:pt x="16892" y="7193"/>
                </a:cubicBezTo>
              </a:path>
              <a:path w="2630" h="2655">
                <a:moveTo>
                  <a:pt x="15503" y="6846"/>
                </a:moveTo>
                <a:cubicBezTo>
                  <a:pt x="15522" y="6978"/>
                  <a:pt x="15552" y="7111"/>
                  <a:pt x="15577" y="7243"/>
                </a:cubicBezTo>
              </a:path>
              <a:path w="2630" h="2655">
                <a:moveTo>
                  <a:pt x="16793" y="8806"/>
                </a:moveTo>
                <a:cubicBezTo>
                  <a:pt x="16892" y="8806"/>
                  <a:pt x="16925" y="8806"/>
                  <a:pt x="16991" y="8806"/>
                </a:cubicBezTo>
                <a:cubicBezTo>
                  <a:pt x="16953" y="8862"/>
                  <a:pt x="16860" y="8933"/>
                  <a:pt x="16892" y="8954"/>
                </a:cubicBezTo>
                <a:cubicBezTo>
                  <a:pt x="16917" y="8971"/>
                  <a:pt x="16941" y="8987"/>
                  <a:pt x="16966" y="9004"/>
                </a:cubicBezTo>
                <a:cubicBezTo>
                  <a:pt x="16888" y="9240"/>
                  <a:pt x="16683" y="9123"/>
                  <a:pt x="16495" y="9079"/>
                </a:cubicBezTo>
              </a:path>
              <a:path w="2630" h="2655">
                <a:moveTo>
                  <a:pt x="16098" y="8558"/>
                </a:moveTo>
                <a:cubicBezTo>
                  <a:pt x="16394" y="8673"/>
                  <a:pt x="16653" y="8827"/>
                  <a:pt x="16917" y="9004"/>
                </a:cubicBezTo>
                <a:cubicBezTo>
                  <a:pt x="16950" y="9029"/>
                  <a:pt x="16983" y="9054"/>
                  <a:pt x="17016" y="9079"/>
                </a:cubicBezTo>
              </a:path>
              <a:path w="2630" h="2655">
                <a:moveTo>
                  <a:pt x="15801" y="9054"/>
                </a:moveTo>
                <a:cubicBezTo>
                  <a:pt x="15861" y="9213"/>
                  <a:pt x="15872" y="9534"/>
                  <a:pt x="15999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46680" y="3732120"/>
            <a:ext cx="161640" cy="741600"/>
          </a:xfrm>
          <a:custGeom>
            <a:avLst/>
            <a:gdLst/>
            <a:ahLst/>
            <a:rect l="l" t="t" r="r" b="b"/>
            <a:pathLst>
              <a:path w="447" h="2060">
                <a:moveTo>
                  <a:pt x="11038" y="12179"/>
                </a:moveTo>
                <a:cubicBezTo>
                  <a:pt x="11112" y="12209"/>
                  <a:pt x="11166" y="12295"/>
                  <a:pt x="11187" y="12378"/>
                </a:cubicBezTo>
                <a:cubicBezTo>
                  <a:pt x="11187" y="12394"/>
                  <a:pt x="11187" y="12411"/>
                  <a:pt x="11187" y="12427"/>
                </a:cubicBezTo>
              </a:path>
              <a:path w="447" h="2060">
                <a:moveTo>
                  <a:pt x="11137" y="12328"/>
                </a:moveTo>
                <a:cubicBezTo>
                  <a:pt x="11036" y="12408"/>
                  <a:pt x="11016" y="12462"/>
                  <a:pt x="10964" y="12378"/>
                </a:cubicBezTo>
              </a:path>
              <a:path w="447" h="2060">
                <a:moveTo>
                  <a:pt x="10964" y="12378"/>
                </a:moveTo>
                <a:lnTo>
                  <a:pt x="10964" y="12378"/>
                </a:lnTo>
              </a:path>
              <a:path w="447" h="2060">
                <a:moveTo>
                  <a:pt x="11237" y="10368"/>
                </a:moveTo>
                <a:cubicBezTo>
                  <a:pt x="11220" y="10450"/>
                  <a:pt x="11209" y="10545"/>
                  <a:pt x="11162" y="10592"/>
                </a:cubicBezTo>
              </a:path>
              <a:path w="447" h="2060">
                <a:moveTo>
                  <a:pt x="11088" y="10517"/>
                </a:moveTo>
                <a:cubicBezTo>
                  <a:pt x="11246" y="10490"/>
                  <a:pt x="11305" y="10479"/>
                  <a:pt x="11410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2120" y="3840120"/>
            <a:ext cx="546120" cy="561960"/>
          </a:xfrm>
          <a:custGeom>
            <a:avLst/>
            <a:gdLst/>
            <a:ahLst/>
            <a:rect l="l" t="t" r="r" b="b"/>
            <a:pathLst>
              <a:path w="1514" h="1564">
                <a:moveTo>
                  <a:pt x="10492" y="11485"/>
                </a:moveTo>
                <a:cubicBezTo>
                  <a:pt x="10484" y="11647"/>
                  <a:pt x="10470" y="11729"/>
                  <a:pt x="10368" y="11857"/>
                </a:cubicBezTo>
                <a:cubicBezTo>
                  <a:pt x="10428" y="11718"/>
                  <a:pt x="10580" y="11771"/>
                  <a:pt x="10716" y="11807"/>
                </a:cubicBezTo>
                <a:cubicBezTo>
                  <a:pt x="10773" y="11826"/>
                  <a:pt x="10780" y="11835"/>
                  <a:pt x="10815" y="11832"/>
                </a:cubicBezTo>
              </a:path>
              <a:path w="1514" h="1564">
                <a:moveTo>
                  <a:pt x="10790" y="11311"/>
                </a:moveTo>
                <a:cubicBezTo>
                  <a:pt x="10790" y="11611"/>
                  <a:pt x="10793" y="11907"/>
                  <a:pt x="10765" y="12204"/>
                </a:cubicBezTo>
                <a:cubicBezTo>
                  <a:pt x="10765" y="12229"/>
                  <a:pt x="10765" y="12237"/>
                  <a:pt x="10765" y="12204"/>
                </a:cubicBezTo>
              </a:path>
              <a:path w="1514" h="1564">
                <a:moveTo>
                  <a:pt x="11782" y="10666"/>
                </a:moveTo>
                <a:cubicBezTo>
                  <a:pt x="11698" y="10666"/>
                  <a:pt x="11589" y="10621"/>
                  <a:pt x="11584" y="10716"/>
                </a:cubicBezTo>
                <a:cubicBezTo>
                  <a:pt x="11581" y="10783"/>
                  <a:pt x="11593" y="10830"/>
                  <a:pt x="11559" y="10864"/>
                </a:cubicBezTo>
                <a:cubicBezTo>
                  <a:pt x="11631" y="10888"/>
                  <a:pt x="11785" y="10788"/>
                  <a:pt x="11857" y="10864"/>
                </a:cubicBezTo>
                <a:cubicBezTo>
                  <a:pt x="12010" y="11025"/>
                  <a:pt x="11680" y="11123"/>
                  <a:pt x="11584" y="11112"/>
                </a:cubicBezTo>
                <a:cubicBezTo>
                  <a:pt x="11576" y="11104"/>
                  <a:pt x="11567" y="11096"/>
                  <a:pt x="11559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4822920"/>
            <a:ext cx="1135080" cy="633240"/>
          </a:xfrm>
          <a:custGeom>
            <a:avLst/>
            <a:gdLst/>
            <a:ahLst/>
            <a:rect l="l" t="t" r="r" b="b"/>
            <a:pathLst>
              <a:path w="3151" h="1762">
                <a:moveTo>
                  <a:pt x="13667" y="13593"/>
                </a:moveTo>
                <a:cubicBezTo>
                  <a:pt x="13614" y="13610"/>
                  <a:pt x="13452" y="13628"/>
                  <a:pt x="13419" y="13667"/>
                </a:cubicBezTo>
                <a:cubicBezTo>
                  <a:pt x="13394" y="13697"/>
                  <a:pt x="13389" y="13813"/>
                  <a:pt x="13370" y="13866"/>
                </a:cubicBezTo>
                <a:cubicBezTo>
                  <a:pt x="13445" y="13860"/>
                  <a:pt x="13692" y="13789"/>
                  <a:pt x="13692" y="13940"/>
                </a:cubicBezTo>
                <a:cubicBezTo>
                  <a:pt x="13692" y="14123"/>
                  <a:pt x="13454" y="14103"/>
                  <a:pt x="13370" y="14064"/>
                </a:cubicBezTo>
              </a:path>
              <a:path w="3151" h="1762">
                <a:moveTo>
                  <a:pt x="13345" y="14635"/>
                </a:moveTo>
                <a:cubicBezTo>
                  <a:pt x="13402" y="14558"/>
                  <a:pt x="13498" y="14570"/>
                  <a:pt x="13593" y="14585"/>
                </a:cubicBezTo>
                <a:cubicBezTo>
                  <a:pt x="13547" y="14816"/>
                  <a:pt x="13442" y="15007"/>
                  <a:pt x="13221" y="15131"/>
                </a:cubicBezTo>
                <a:cubicBezTo>
                  <a:pt x="13188" y="15139"/>
                  <a:pt x="13155" y="15148"/>
                  <a:pt x="13122" y="15156"/>
                </a:cubicBezTo>
                <a:cubicBezTo>
                  <a:pt x="13083" y="15039"/>
                  <a:pt x="13190" y="14960"/>
                  <a:pt x="13320" y="14957"/>
                </a:cubicBezTo>
                <a:cubicBezTo>
                  <a:pt x="13473" y="14954"/>
                  <a:pt x="13536" y="15058"/>
                  <a:pt x="13667" y="15032"/>
                </a:cubicBezTo>
              </a:path>
              <a:path w="3151" h="1762">
                <a:moveTo>
                  <a:pt x="14486" y="14362"/>
                </a:moveTo>
                <a:cubicBezTo>
                  <a:pt x="14581" y="14345"/>
                  <a:pt x="14662" y="14337"/>
                  <a:pt x="14759" y="14337"/>
                </a:cubicBezTo>
              </a:path>
              <a:path w="3151" h="1762">
                <a:moveTo>
                  <a:pt x="15627" y="13519"/>
                </a:moveTo>
                <a:cubicBezTo>
                  <a:pt x="15619" y="13566"/>
                  <a:pt x="15574" y="14016"/>
                  <a:pt x="15577" y="14015"/>
                </a:cubicBezTo>
                <a:cubicBezTo>
                  <a:pt x="15585" y="13990"/>
                  <a:pt x="15594" y="13965"/>
                  <a:pt x="15602" y="13940"/>
                </a:cubicBezTo>
              </a:path>
              <a:path w="3151" h="1762">
                <a:moveTo>
                  <a:pt x="15875" y="13494"/>
                </a:moveTo>
                <a:cubicBezTo>
                  <a:pt x="15883" y="13584"/>
                  <a:pt x="15865" y="13679"/>
                  <a:pt x="15974" y="13692"/>
                </a:cubicBezTo>
                <a:cubicBezTo>
                  <a:pt x="16121" y="13709"/>
                  <a:pt x="16156" y="13683"/>
                  <a:pt x="16247" y="13593"/>
                </a:cubicBezTo>
              </a:path>
              <a:path w="3151" h="1762">
                <a:moveTo>
                  <a:pt x="16222" y="13395"/>
                </a:moveTo>
                <a:cubicBezTo>
                  <a:pt x="16197" y="13584"/>
                  <a:pt x="16031" y="14093"/>
                  <a:pt x="16173" y="13965"/>
                </a:cubicBezTo>
                <a:cubicBezTo>
                  <a:pt x="16189" y="13932"/>
                  <a:pt x="16206" y="13899"/>
                  <a:pt x="16222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92840" y="5340240"/>
            <a:ext cx="125280" cy="15264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16371" y="14833"/>
                </a:moveTo>
                <a:cubicBezTo>
                  <a:pt x="16519" y="14885"/>
                  <a:pt x="16788" y="14993"/>
                  <a:pt x="16619" y="15205"/>
                </a:cubicBezTo>
                <a:cubicBezTo>
                  <a:pt x="16544" y="15299"/>
                  <a:pt x="16382" y="15261"/>
                  <a:pt x="16396" y="15180"/>
                </a:cubicBezTo>
                <a:cubicBezTo>
                  <a:pt x="16523" y="15162"/>
                  <a:pt x="16613" y="15201"/>
                  <a:pt x="16718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2160" y="287496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21506" y="8037"/>
                </a:moveTo>
                <a:cubicBezTo>
                  <a:pt x="21626" y="8037"/>
                  <a:pt x="21663" y="8039"/>
                  <a:pt x="21729" y="7987"/>
                </a:cubicBezTo>
              </a:path>
              <a:path w="224" h="51">
                <a:moveTo>
                  <a:pt x="21729" y="7987"/>
                </a:moveTo>
                <a:lnTo>
                  <a:pt x="21729" y="798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56240" y="2687760"/>
            <a:ext cx="160560" cy="214200"/>
          </a:xfrm>
          <a:custGeom>
            <a:avLst/>
            <a:gdLst/>
            <a:ahLst/>
            <a:rect l="l" t="t" r="r" b="b"/>
            <a:pathLst>
              <a:path w="447" h="597">
                <a:moveTo>
                  <a:pt x="18033" y="7466"/>
                </a:moveTo>
                <a:cubicBezTo>
                  <a:pt x="18022" y="7663"/>
                  <a:pt x="17933" y="7872"/>
                  <a:pt x="17934" y="8062"/>
                </a:cubicBezTo>
                <a:cubicBezTo>
                  <a:pt x="17998" y="7998"/>
                  <a:pt x="18033" y="7942"/>
                  <a:pt x="18058" y="7863"/>
                </a:cubicBezTo>
              </a:path>
              <a:path w="447" h="597">
                <a:moveTo>
                  <a:pt x="18207" y="7491"/>
                </a:moveTo>
                <a:cubicBezTo>
                  <a:pt x="18151" y="7621"/>
                  <a:pt x="18285" y="7634"/>
                  <a:pt x="18355" y="7739"/>
                </a:cubicBezTo>
                <a:cubicBezTo>
                  <a:pt x="18462" y="7900"/>
                  <a:pt x="18315" y="7869"/>
                  <a:pt x="1823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05760" y="2463840"/>
            <a:ext cx="1671480" cy="706320"/>
          </a:xfrm>
          <a:custGeom>
            <a:avLst/>
            <a:gdLst/>
            <a:ahLst/>
            <a:rect l="l" t="t" r="r" b="b"/>
            <a:pathLst>
              <a:path w="4640" h="1961">
                <a:moveTo>
                  <a:pt x="20017" y="7813"/>
                </a:moveTo>
                <a:cubicBezTo>
                  <a:pt x="20374" y="7784"/>
                  <a:pt x="20727" y="7698"/>
                  <a:pt x="21084" y="7665"/>
                </a:cubicBezTo>
                <a:cubicBezTo>
                  <a:pt x="21202" y="7654"/>
                  <a:pt x="21299" y="7629"/>
                  <a:pt x="21258" y="7714"/>
                </a:cubicBezTo>
              </a:path>
              <a:path w="4640" h="1961">
                <a:moveTo>
                  <a:pt x="20464" y="8210"/>
                </a:moveTo>
                <a:cubicBezTo>
                  <a:pt x="20472" y="8186"/>
                  <a:pt x="20582" y="8143"/>
                  <a:pt x="20613" y="8136"/>
                </a:cubicBezTo>
                <a:cubicBezTo>
                  <a:pt x="20645" y="8129"/>
                  <a:pt x="20700" y="8136"/>
                  <a:pt x="20737" y="8136"/>
                </a:cubicBezTo>
                <a:cubicBezTo>
                  <a:pt x="20737" y="8281"/>
                  <a:pt x="20639" y="8344"/>
                  <a:pt x="20489" y="8409"/>
                </a:cubicBezTo>
                <a:cubicBezTo>
                  <a:pt x="20481" y="8409"/>
                  <a:pt x="20472" y="8409"/>
                  <a:pt x="20464" y="8409"/>
                </a:cubicBezTo>
                <a:cubicBezTo>
                  <a:pt x="20585" y="8357"/>
                  <a:pt x="20598" y="8347"/>
                  <a:pt x="20712" y="8409"/>
                </a:cubicBezTo>
                <a:cubicBezTo>
                  <a:pt x="20673" y="8551"/>
                  <a:pt x="20611" y="8556"/>
                  <a:pt x="20464" y="8533"/>
                </a:cubicBezTo>
              </a:path>
              <a:path w="4640" h="1961">
                <a:moveTo>
                  <a:pt x="20315" y="8359"/>
                </a:moveTo>
                <a:cubicBezTo>
                  <a:pt x="20323" y="8334"/>
                  <a:pt x="20351" y="8284"/>
                  <a:pt x="20389" y="8260"/>
                </a:cubicBezTo>
                <a:cubicBezTo>
                  <a:pt x="20435" y="8230"/>
                  <a:pt x="20488" y="8193"/>
                  <a:pt x="20538" y="8161"/>
                </a:cubicBezTo>
                <a:cubicBezTo>
                  <a:pt x="20583" y="8132"/>
                  <a:pt x="20612" y="8136"/>
                  <a:pt x="20662" y="8136"/>
                </a:cubicBezTo>
                <a:cubicBezTo>
                  <a:pt x="20713" y="8289"/>
                  <a:pt x="20646" y="8344"/>
                  <a:pt x="20538" y="8458"/>
                </a:cubicBezTo>
                <a:cubicBezTo>
                  <a:pt x="20466" y="8534"/>
                  <a:pt x="20252" y="8640"/>
                  <a:pt x="20216" y="8731"/>
                </a:cubicBezTo>
                <a:cubicBezTo>
                  <a:pt x="20216" y="8773"/>
                  <a:pt x="20216" y="8781"/>
                  <a:pt x="20216" y="8806"/>
                </a:cubicBezTo>
                <a:cubicBezTo>
                  <a:pt x="20310" y="8768"/>
                  <a:pt x="20396" y="8664"/>
                  <a:pt x="20489" y="8607"/>
                </a:cubicBezTo>
                <a:cubicBezTo>
                  <a:pt x="20646" y="8512"/>
                  <a:pt x="20637" y="8569"/>
                  <a:pt x="20737" y="8657"/>
                </a:cubicBezTo>
                <a:cubicBezTo>
                  <a:pt x="20829" y="8737"/>
                  <a:pt x="20907" y="8640"/>
                  <a:pt x="20985" y="8607"/>
                </a:cubicBezTo>
                <a:cubicBezTo>
                  <a:pt x="20993" y="8607"/>
                  <a:pt x="21002" y="8607"/>
                  <a:pt x="21010" y="8607"/>
                </a:cubicBezTo>
              </a:path>
              <a:path w="4640" h="1961">
                <a:moveTo>
                  <a:pt x="21481" y="7938"/>
                </a:moveTo>
                <a:cubicBezTo>
                  <a:pt x="21580" y="7884"/>
                  <a:pt x="21640" y="7863"/>
                  <a:pt x="21754" y="7863"/>
                </a:cubicBezTo>
              </a:path>
              <a:path w="4640" h="1961">
                <a:moveTo>
                  <a:pt x="23217" y="7913"/>
                </a:moveTo>
                <a:cubicBezTo>
                  <a:pt x="23312" y="7897"/>
                  <a:pt x="23372" y="7834"/>
                  <a:pt x="23465" y="7813"/>
                </a:cubicBezTo>
                <a:cubicBezTo>
                  <a:pt x="23482" y="7813"/>
                  <a:pt x="23498" y="7813"/>
                  <a:pt x="23515" y="7813"/>
                </a:cubicBezTo>
                <a:cubicBezTo>
                  <a:pt x="23500" y="8008"/>
                  <a:pt x="23395" y="8113"/>
                  <a:pt x="23267" y="8260"/>
                </a:cubicBezTo>
                <a:cubicBezTo>
                  <a:pt x="23250" y="8277"/>
                  <a:pt x="23234" y="8293"/>
                  <a:pt x="23217" y="8310"/>
                </a:cubicBezTo>
                <a:cubicBezTo>
                  <a:pt x="23158" y="8280"/>
                  <a:pt x="23336" y="8206"/>
                  <a:pt x="23366" y="8186"/>
                </a:cubicBezTo>
                <a:cubicBezTo>
                  <a:pt x="23445" y="8132"/>
                  <a:pt x="23465" y="8231"/>
                  <a:pt x="23564" y="8210"/>
                </a:cubicBezTo>
                <a:cubicBezTo>
                  <a:pt x="23669" y="8169"/>
                  <a:pt x="23695" y="8167"/>
                  <a:pt x="23738" y="8111"/>
                </a:cubicBezTo>
              </a:path>
              <a:path w="4640" h="1961">
                <a:moveTo>
                  <a:pt x="22175" y="8731"/>
                </a:moveTo>
                <a:cubicBezTo>
                  <a:pt x="22435" y="8768"/>
                  <a:pt x="22680" y="8802"/>
                  <a:pt x="22944" y="8806"/>
                </a:cubicBezTo>
                <a:cubicBezTo>
                  <a:pt x="23430" y="8814"/>
                  <a:pt x="23917" y="8826"/>
                  <a:pt x="24333" y="8533"/>
                </a:cubicBezTo>
                <a:cubicBezTo>
                  <a:pt x="24629" y="8325"/>
                  <a:pt x="24641" y="7993"/>
                  <a:pt x="24656" y="7665"/>
                </a:cubicBezTo>
                <a:cubicBezTo>
                  <a:pt x="24673" y="7307"/>
                  <a:pt x="24548" y="7135"/>
                  <a:pt x="24209" y="6995"/>
                </a:cubicBezTo>
                <a:cubicBezTo>
                  <a:pt x="23830" y="6838"/>
                  <a:pt x="23259" y="6744"/>
                  <a:pt x="22870" y="6921"/>
                </a:cubicBezTo>
                <a:cubicBezTo>
                  <a:pt x="22482" y="7097"/>
                  <a:pt x="22118" y="7551"/>
                  <a:pt x="22126" y="7987"/>
                </a:cubicBezTo>
                <a:cubicBezTo>
                  <a:pt x="22135" y="8494"/>
                  <a:pt x="22573" y="8606"/>
                  <a:pt x="22969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67320" y="3286080"/>
            <a:ext cx="150840" cy="115920"/>
          </a:xfrm>
          <a:custGeom>
            <a:avLst/>
            <a:gdLst/>
            <a:ahLst/>
            <a:rect l="l" t="t" r="r" b="b"/>
            <a:pathLst>
              <a:path w="422" h="324">
                <a:moveTo>
                  <a:pt x="17686" y="9203"/>
                </a:moveTo>
                <a:cubicBezTo>
                  <a:pt x="17755" y="9184"/>
                  <a:pt x="18143" y="9013"/>
                  <a:pt x="17983" y="9227"/>
                </a:cubicBezTo>
                <a:cubicBezTo>
                  <a:pt x="17880" y="9331"/>
                  <a:pt x="17842" y="9368"/>
                  <a:pt x="17760" y="9426"/>
                </a:cubicBezTo>
                <a:cubicBezTo>
                  <a:pt x="17675" y="9514"/>
                  <a:pt x="18034" y="9317"/>
                  <a:pt x="18107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2536920"/>
            <a:ext cx="420840" cy="401400"/>
          </a:xfrm>
          <a:custGeom>
            <a:avLst/>
            <a:gdLst/>
            <a:ahLst/>
            <a:rect l="l" t="t" r="r" b="b"/>
            <a:pathLst>
              <a:path w="1167" h="1117">
                <a:moveTo>
                  <a:pt x="22225" y="7739"/>
                </a:moveTo>
                <a:cubicBezTo>
                  <a:pt x="22310" y="7705"/>
                  <a:pt x="22393" y="7600"/>
                  <a:pt x="22473" y="7541"/>
                </a:cubicBezTo>
                <a:cubicBezTo>
                  <a:pt x="22529" y="7503"/>
                  <a:pt x="22554" y="7508"/>
                  <a:pt x="22547" y="7466"/>
                </a:cubicBezTo>
                <a:cubicBezTo>
                  <a:pt x="22618" y="7691"/>
                  <a:pt x="22555" y="7848"/>
                  <a:pt x="22399" y="8037"/>
                </a:cubicBezTo>
                <a:cubicBezTo>
                  <a:pt x="22324" y="8111"/>
                  <a:pt x="22315" y="8119"/>
                  <a:pt x="22275" y="8161"/>
                </a:cubicBezTo>
                <a:cubicBezTo>
                  <a:pt x="22403" y="8135"/>
                  <a:pt x="22478" y="8074"/>
                  <a:pt x="22622" y="8086"/>
                </a:cubicBezTo>
                <a:cubicBezTo>
                  <a:pt x="22679" y="8105"/>
                  <a:pt x="22704" y="8096"/>
                  <a:pt x="22696" y="8136"/>
                </a:cubicBezTo>
              </a:path>
              <a:path w="1167" h="1117">
                <a:moveTo>
                  <a:pt x="23391" y="7045"/>
                </a:moveTo>
                <a:cubicBezTo>
                  <a:pt x="23360" y="7216"/>
                  <a:pt x="23356" y="7389"/>
                  <a:pt x="23292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08920" y="2697120"/>
            <a:ext cx="1463760" cy="3214800"/>
          </a:xfrm>
          <a:custGeom>
            <a:avLst/>
            <a:gdLst/>
            <a:ahLst/>
            <a:rect l="l" t="t" r="r" b="b"/>
            <a:pathLst>
              <a:path w="4068" h="8931">
                <a:moveTo>
                  <a:pt x="23068" y="7689"/>
                </a:moveTo>
                <a:cubicBezTo>
                  <a:pt x="23161" y="7663"/>
                  <a:pt x="23751" y="7431"/>
                  <a:pt x="23812" y="7491"/>
                </a:cubicBezTo>
                <a:cubicBezTo>
                  <a:pt x="23804" y="7524"/>
                  <a:pt x="23796" y="7557"/>
                  <a:pt x="23788" y="7590"/>
                </a:cubicBezTo>
              </a:path>
              <a:path w="4068" h="8931">
                <a:moveTo>
                  <a:pt x="19745" y="16421"/>
                </a:moveTo>
                <a:cubicBezTo>
                  <a:pt x="20115" y="16322"/>
                  <a:pt x="20519" y="16164"/>
                  <a:pt x="20910" y="16222"/>
                </a:cubicBezTo>
                <a:cubicBezTo>
                  <a:pt x="20902" y="16230"/>
                  <a:pt x="20894" y="16239"/>
                  <a:pt x="20886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75680" y="4776840"/>
            <a:ext cx="1090440" cy="457200"/>
          </a:xfrm>
          <a:custGeom>
            <a:avLst/>
            <a:gdLst/>
            <a:ahLst/>
            <a:rect l="l" t="t" r="r" b="b"/>
            <a:pathLst>
              <a:path w="3027" h="1266">
                <a:moveTo>
                  <a:pt x="20489" y="13419"/>
                </a:moveTo>
                <a:cubicBezTo>
                  <a:pt x="20635" y="13383"/>
                  <a:pt x="20760" y="13354"/>
                  <a:pt x="20910" y="13345"/>
                </a:cubicBezTo>
              </a:path>
              <a:path w="3027" h="1266">
                <a:moveTo>
                  <a:pt x="21258" y="14337"/>
                </a:moveTo>
                <a:cubicBezTo>
                  <a:pt x="21324" y="14312"/>
                  <a:pt x="21390" y="14288"/>
                  <a:pt x="21456" y="14263"/>
                </a:cubicBezTo>
              </a:path>
              <a:path w="3027" h="1266">
                <a:moveTo>
                  <a:pt x="21456" y="14263"/>
                </a:moveTo>
                <a:lnTo>
                  <a:pt x="21456" y="14263"/>
                </a:lnTo>
              </a:path>
              <a:path w="3027" h="1266">
                <a:moveTo>
                  <a:pt x="21903" y="13692"/>
                </a:moveTo>
                <a:cubicBezTo>
                  <a:pt x="21998" y="13949"/>
                  <a:pt x="22052" y="14208"/>
                  <a:pt x="22027" y="14486"/>
                </a:cubicBezTo>
                <a:cubicBezTo>
                  <a:pt x="22019" y="14503"/>
                  <a:pt x="22010" y="14519"/>
                  <a:pt x="22002" y="14536"/>
                </a:cubicBezTo>
              </a:path>
              <a:path w="3027" h="1266">
                <a:moveTo>
                  <a:pt x="23366" y="13271"/>
                </a:moveTo>
                <a:cubicBezTo>
                  <a:pt x="23414" y="13419"/>
                  <a:pt x="23473" y="13572"/>
                  <a:pt x="23515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24800" y="4456080"/>
            <a:ext cx="2079360" cy="893880"/>
          </a:xfrm>
          <a:custGeom>
            <a:avLst/>
            <a:gdLst/>
            <a:ahLst/>
            <a:rect l="l" t="t" r="r" b="b"/>
            <a:pathLst>
              <a:path w="5780" h="2481">
                <a:moveTo>
                  <a:pt x="19645" y="13543"/>
                </a:moveTo>
                <a:cubicBezTo>
                  <a:pt x="19686" y="13706"/>
                  <a:pt x="19684" y="13825"/>
                  <a:pt x="19670" y="13990"/>
                </a:cubicBezTo>
              </a:path>
              <a:path w="5780" h="2481">
                <a:moveTo>
                  <a:pt x="19968" y="13568"/>
                </a:moveTo>
                <a:cubicBezTo>
                  <a:pt x="20007" y="13695"/>
                  <a:pt x="20017" y="13825"/>
                  <a:pt x="20191" y="13791"/>
                </a:cubicBezTo>
                <a:cubicBezTo>
                  <a:pt x="20232" y="13775"/>
                  <a:pt x="20274" y="13758"/>
                  <a:pt x="20315" y="13742"/>
                </a:cubicBezTo>
              </a:path>
              <a:path w="5780" h="2481">
                <a:moveTo>
                  <a:pt x="20315" y="13568"/>
                </a:moveTo>
                <a:cubicBezTo>
                  <a:pt x="20301" y="13706"/>
                  <a:pt x="20290" y="13827"/>
                  <a:pt x="20290" y="13965"/>
                </a:cubicBezTo>
              </a:path>
              <a:path w="5780" h="2481">
                <a:moveTo>
                  <a:pt x="20489" y="13519"/>
                </a:moveTo>
                <a:cubicBezTo>
                  <a:pt x="20577" y="13623"/>
                  <a:pt x="20798" y="13734"/>
                  <a:pt x="20762" y="13891"/>
                </a:cubicBezTo>
                <a:cubicBezTo>
                  <a:pt x="20699" y="13953"/>
                  <a:pt x="20664" y="13969"/>
                  <a:pt x="20588" y="13940"/>
                </a:cubicBezTo>
              </a:path>
              <a:path w="5780" h="2481">
                <a:moveTo>
                  <a:pt x="19273" y="14163"/>
                </a:moveTo>
                <a:cubicBezTo>
                  <a:pt x="19337" y="13990"/>
                  <a:pt x="19335" y="13827"/>
                  <a:pt x="19298" y="13643"/>
                </a:cubicBezTo>
                <a:cubicBezTo>
                  <a:pt x="19276" y="13536"/>
                  <a:pt x="19239" y="13422"/>
                  <a:pt x="19199" y="13320"/>
                </a:cubicBezTo>
                <a:cubicBezTo>
                  <a:pt x="19613" y="13278"/>
                  <a:pt x="20065" y="13276"/>
                  <a:pt x="20489" y="13246"/>
                </a:cubicBezTo>
                <a:cubicBezTo>
                  <a:pt x="20769" y="13226"/>
                  <a:pt x="21052" y="13207"/>
                  <a:pt x="21332" y="13196"/>
                </a:cubicBezTo>
              </a:path>
              <a:path w="5780" h="2481">
                <a:moveTo>
                  <a:pt x="18728" y="13593"/>
                </a:moveTo>
                <a:cubicBezTo>
                  <a:pt x="18886" y="13676"/>
                  <a:pt x="19187" y="13861"/>
                  <a:pt x="18901" y="14039"/>
                </a:cubicBezTo>
                <a:cubicBezTo>
                  <a:pt x="18759" y="14128"/>
                  <a:pt x="18711" y="14031"/>
                  <a:pt x="18678" y="13940"/>
                </a:cubicBezTo>
                <a:cubicBezTo>
                  <a:pt x="18843" y="13919"/>
                  <a:pt x="18992" y="13976"/>
                  <a:pt x="19149" y="13965"/>
                </a:cubicBezTo>
              </a:path>
              <a:path w="5780" h="2481">
                <a:moveTo>
                  <a:pt x="19844" y="12601"/>
                </a:moveTo>
                <a:cubicBezTo>
                  <a:pt x="19890" y="12811"/>
                  <a:pt x="19933" y="13007"/>
                  <a:pt x="19943" y="13221"/>
                </a:cubicBezTo>
              </a:path>
              <a:path w="5780" h="2481">
                <a:moveTo>
                  <a:pt x="20365" y="12526"/>
                </a:moveTo>
                <a:cubicBezTo>
                  <a:pt x="20281" y="12499"/>
                  <a:pt x="20426" y="12391"/>
                  <a:pt x="20513" y="12378"/>
                </a:cubicBezTo>
                <a:cubicBezTo>
                  <a:pt x="20555" y="12386"/>
                  <a:pt x="20596" y="12394"/>
                  <a:pt x="20638" y="12402"/>
                </a:cubicBezTo>
                <a:cubicBezTo>
                  <a:pt x="20684" y="12690"/>
                  <a:pt x="20629" y="12847"/>
                  <a:pt x="20290" y="12874"/>
                </a:cubicBezTo>
                <a:cubicBezTo>
                  <a:pt x="20274" y="12866"/>
                  <a:pt x="20257" y="12857"/>
                  <a:pt x="20241" y="12849"/>
                </a:cubicBezTo>
                <a:cubicBezTo>
                  <a:pt x="20384" y="12765"/>
                  <a:pt x="20521" y="12747"/>
                  <a:pt x="20662" y="12874"/>
                </a:cubicBezTo>
                <a:cubicBezTo>
                  <a:pt x="20670" y="12890"/>
                  <a:pt x="20679" y="12907"/>
                  <a:pt x="20687" y="12923"/>
                </a:cubicBezTo>
              </a:path>
              <a:path w="5780" h="2481">
                <a:moveTo>
                  <a:pt x="21183" y="14163"/>
                </a:moveTo>
                <a:cubicBezTo>
                  <a:pt x="21282" y="14163"/>
                  <a:pt x="21382" y="14163"/>
                  <a:pt x="21481" y="14163"/>
                </a:cubicBezTo>
              </a:path>
              <a:path w="5780" h="2481">
                <a:moveTo>
                  <a:pt x="22250" y="13791"/>
                </a:moveTo>
                <a:cubicBezTo>
                  <a:pt x="22445" y="13838"/>
                  <a:pt x="22909" y="14053"/>
                  <a:pt x="22647" y="14362"/>
                </a:cubicBezTo>
                <a:cubicBezTo>
                  <a:pt x="22511" y="14523"/>
                  <a:pt x="22308" y="14421"/>
                  <a:pt x="22175" y="14362"/>
                </a:cubicBezTo>
                <a:cubicBezTo>
                  <a:pt x="22302" y="14208"/>
                  <a:pt x="22468" y="14203"/>
                  <a:pt x="22647" y="14337"/>
                </a:cubicBezTo>
                <a:cubicBezTo>
                  <a:pt x="22668" y="14381"/>
                  <a:pt x="22671" y="14393"/>
                  <a:pt x="22696" y="14412"/>
                </a:cubicBezTo>
              </a:path>
              <a:path w="5780" h="2481">
                <a:moveTo>
                  <a:pt x="23168" y="13891"/>
                </a:moveTo>
                <a:cubicBezTo>
                  <a:pt x="23425" y="13863"/>
                  <a:pt x="23679" y="13816"/>
                  <a:pt x="23937" y="13816"/>
                </a:cubicBezTo>
              </a:path>
              <a:path w="5780" h="2481">
                <a:moveTo>
                  <a:pt x="23267" y="14188"/>
                </a:moveTo>
                <a:cubicBezTo>
                  <a:pt x="23267" y="14271"/>
                  <a:pt x="23227" y="14583"/>
                  <a:pt x="23292" y="14560"/>
                </a:cubicBezTo>
              </a:path>
              <a:path w="5780" h="2481">
                <a:moveTo>
                  <a:pt x="23515" y="14139"/>
                </a:moveTo>
                <a:cubicBezTo>
                  <a:pt x="23661" y="14192"/>
                  <a:pt x="24019" y="14335"/>
                  <a:pt x="23812" y="14560"/>
                </a:cubicBezTo>
                <a:cubicBezTo>
                  <a:pt x="23733" y="14646"/>
                  <a:pt x="23613" y="14553"/>
                  <a:pt x="23564" y="14511"/>
                </a:cubicBezTo>
                <a:cubicBezTo>
                  <a:pt x="23726" y="14501"/>
                  <a:pt x="23832" y="14531"/>
                  <a:pt x="23961" y="14635"/>
                </a:cubicBezTo>
              </a:path>
              <a:path w="5780" h="2481">
                <a:moveTo>
                  <a:pt x="21952" y="14734"/>
                </a:moveTo>
                <a:cubicBezTo>
                  <a:pt x="22545" y="14826"/>
                  <a:pt x="23168" y="14939"/>
                  <a:pt x="23763" y="14784"/>
                </a:cubicBezTo>
                <a:cubicBezTo>
                  <a:pt x="24216" y="14666"/>
                  <a:pt x="24575" y="14277"/>
                  <a:pt x="24408" y="13791"/>
                </a:cubicBezTo>
                <a:cubicBezTo>
                  <a:pt x="24169" y="13098"/>
                  <a:pt x="23430" y="12763"/>
                  <a:pt x="22746" y="12725"/>
                </a:cubicBezTo>
                <a:cubicBezTo>
                  <a:pt x="22010" y="12684"/>
                  <a:pt x="21052" y="13126"/>
                  <a:pt x="21406" y="14039"/>
                </a:cubicBezTo>
                <a:cubicBezTo>
                  <a:pt x="21749" y="14454"/>
                  <a:pt x="21857" y="14591"/>
                  <a:pt x="22225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1920" y="5126040"/>
            <a:ext cx="177840" cy="1778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9844" y="14238"/>
                </a:moveTo>
                <a:cubicBezTo>
                  <a:pt x="19978" y="14366"/>
                  <a:pt x="20248" y="14643"/>
                  <a:pt x="19893" y="14734"/>
                </a:cubicBezTo>
                <a:cubicBezTo>
                  <a:pt x="19764" y="14734"/>
                  <a:pt x="19731" y="14745"/>
                  <a:pt x="19670" y="14684"/>
                </a:cubicBezTo>
                <a:cubicBezTo>
                  <a:pt x="19832" y="14556"/>
                  <a:pt x="19963" y="14594"/>
                  <a:pt x="20166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43840" y="5429160"/>
            <a:ext cx="357120" cy="652680"/>
          </a:xfrm>
          <a:custGeom>
            <a:avLst/>
            <a:gdLst/>
            <a:ahLst/>
            <a:rect l="l" t="t" r="r" b="b"/>
            <a:pathLst>
              <a:path w="993" h="1812">
                <a:moveTo>
                  <a:pt x="20017" y="15106"/>
                </a:moveTo>
                <a:cubicBezTo>
                  <a:pt x="20170" y="15128"/>
                  <a:pt x="20411" y="15191"/>
                  <a:pt x="20315" y="15404"/>
                </a:cubicBezTo>
                <a:cubicBezTo>
                  <a:pt x="20238" y="15576"/>
                  <a:pt x="20055" y="15516"/>
                  <a:pt x="19918" y="15503"/>
                </a:cubicBezTo>
                <a:cubicBezTo>
                  <a:pt x="20000" y="15353"/>
                  <a:pt x="20183" y="15330"/>
                  <a:pt x="20365" y="15429"/>
                </a:cubicBezTo>
                <a:cubicBezTo>
                  <a:pt x="20365" y="15437"/>
                  <a:pt x="20365" y="15445"/>
                  <a:pt x="20365" y="15453"/>
                </a:cubicBezTo>
              </a:path>
              <a:path w="993" h="1812">
                <a:moveTo>
                  <a:pt x="20538" y="15081"/>
                </a:moveTo>
                <a:cubicBezTo>
                  <a:pt x="20526" y="15141"/>
                  <a:pt x="20506" y="15196"/>
                  <a:pt x="20489" y="15255"/>
                </a:cubicBezTo>
                <a:cubicBezTo>
                  <a:pt x="20642" y="15274"/>
                  <a:pt x="20718" y="15294"/>
                  <a:pt x="20836" y="15379"/>
                </a:cubicBezTo>
                <a:cubicBezTo>
                  <a:pt x="20709" y="15549"/>
                  <a:pt x="20659" y="15469"/>
                  <a:pt x="20513" y="15354"/>
                </a:cubicBezTo>
              </a:path>
              <a:path w="993" h="1812">
                <a:moveTo>
                  <a:pt x="19844" y="15776"/>
                </a:moveTo>
                <a:cubicBezTo>
                  <a:pt x="19968" y="15776"/>
                  <a:pt x="20115" y="15752"/>
                  <a:pt x="20166" y="15900"/>
                </a:cubicBezTo>
                <a:cubicBezTo>
                  <a:pt x="20245" y="16126"/>
                  <a:pt x="20037" y="16144"/>
                  <a:pt x="19893" y="16123"/>
                </a:cubicBezTo>
                <a:cubicBezTo>
                  <a:pt x="19939" y="15911"/>
                  <a:pt x="20021" y="15998"/>
                  <a:pt x="20216" y="16024"/>
                </a:cubicBezTo>
                <a:cubicBezTo>
                  <a:pt x="20267" y="16024"/>
                  <a:pt x="20286" y="16023"/>
                  <a:pt x="20315" y="15999"/>
                </a:cubicBezTo>
              </a:path>
              <a:path w="993" h="1812">
                <a:moveTo>
                  <a:pt x="20464" y="15751"/>
                </a:moveTo>
                <a:cubicBezTo>
                  <a:pt x="20486" y="15849"/>
                  <a:pt x="20535" y="15982"/>
                  <a:pt x="20662" y="15925"/>
                </a:cubicBezTo>
                <a:cubicBezTo>
                  <a:pt x="20740" y="15889"/>
                  <a:pt x="20730" y="15795"/>
                  <a:pt x="20737" y="15726"/>
                </a:cubicBezTo>
                <a:cubicBezTo>
                  <a:pt x="20737" y="15866"/>
                  <a:pt x="20767" y="16005"/>
                  <a:pt x="20687" y="16098"/>
                </a:cubicBezTo>
              </a:path>
              <a:path w="993" h="1812">
                <a:moveTo>
                  <a:pt x="20613" y="16446"/>
                </a:moveTo>
                <a:cubicBezTo>
                  <a:pt x="20588" y="16588"/>
                  <a:pt x="20588" y="16722"/>
                  <a:pt x="20588" y="16867"/>
                </a:cubicBezTo>
                <a:cubicBezTo>
                  <a:pt x="20588" y="16892"/>
                  <a:pt x="20588" y="16900"/>
                  <a:pt x="20588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6120" y="6581880"/>
            <a:ext cx="3668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4465" y="19025"/>
                </a:moveTo>
                <a:cubicBezTo>
                  <a:pt x="4486" y="18910"/>
                  <a:pt x="4455" y="18953"/>
                  <a:pt x="4539" y="18876"/>
                </a:cubicBezTo>
                <a:cubicBezTo>
                  <a:pt x="4566" y="18851"/>
                  <a:pt x="4591" y="18811"/>
                  <a:pt x="4614" y="18777"/>
                </a:cubicBezTo>
                <a:cubicBezTo>
                  <a:pt x="4686" y="18670"/>
                  <a:pt x="4878" y="18630"/>
                  <a:pt x="4986" y="18579"/>
                </a:cubicBezTo>
                <a:cubicBezTo>
                  <a:pt x="5002" y="18571"/>
                  <a:pt x="5019" y="18562"/>
                  <a:pt x="5035" y="18554"/>
                </a:cubicBezTo>
                <a:cubicBezTo>
                  <a:pt x="4934" y="18503"/>
                  <a:pt x="4827" y="18494"/>
                  <a:pt x="4688" y="18479"/>
                </a:cubicBezTo>
                <a:cubicBezTo>
                  <a:pt x="4480" y="18456"/>
                  <a:pt x="4278" y="18412"/>
                  <a:pt x="4068" y="18405"/>
                </a:cubicBezTo>
                <a:cubicBezTo>
                  <a:pt x="4043" y="18405"/>
                  <a:pt x="4035" y="18405"/>
                  <a:pt x="4018" y="18405"/>
                </a:cubicBezTo>
                <a:cubicBezTo>
                  <a:pt x="4039" y="18369"/>
                  <a:pt x="4058" y="18341"/>
                  <a:pt x="4093" y="18306"/>
                </a:cubicBezTo>
                <a:cubicBezTo>
                  <a:pt x="4111" y="18288"/>
                  <a:pt x="4096" y="18317"/>
                  <a:pt x="4118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05800" y="4680000"/>
            <a:ext cx="287280" cy="241200"/>
          </a:xfrm>
          <a:custGeom>
            <a:avLst/>
            <a:gdLst/>
            <a:ahLst/>
            <a:rect l="l" t="t" r="r" b="b"/>
            <a:pathLst>
              <a:path w="795" h="670">
                <a:moveTo>
                  <a:pt x="21406" y="13022"/>
                </a:moveTo>
                <a:cubicBezTo>
                  <a:pt x="21406" y="13014"/>
                  <a:pt x="21406" y="13006"/>
                  <a:pt x="21406" y="12998"/>
                </a:cubicBezTo>
              </a:path>
              <a:path w="795" h="670">
                <a:moveTo>
                  <a:pt x="21406" y="12998"/>
                </a:moveTo>
                <a:lnTo>
                  <a:pt x="21406" y="12998"/>
                </a:lnTo>
              </a:path>
              <a:path w="795" h="670">
                <a:moveTo>
                  <a:pt x="21630" y="13146"/>
                </a:moveTo>
                <a:cubicBezTo>
                  <a:pt x="21802" y="13171"/>
                  <a:pt x="22028" y="13206"/>
                  <a:pt x="22151" y="13345"/>
                </a:cubicBezTo>
                <a:cubicBezTo>
                  <a:pt x="22358" y="13577"/>
                  <a:pt x="22012" y="13649"/>
                  <a:pt x="21878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2240" y="4803840"/>
            <a:ext cx="250920" cy="36360"/>
          </a:xfrm>
          <a:custGeom>
            <a:avLst/>
            <a:gdLst/>
            <a:ahLst/>
            <a:rect l="l" t="t" r="r" b="b"/>
            <a:pathLst>
              <a:path w="695" h="100">
                <a:moveTo>
                  <a:pt x="17785" y="13444"/>
                </a:moveTo>
                <a:cubicBezTo>
                  <a:pt x="17855" y="13373"/>
                  <a:pt x="18145" y="13397"/>
                  <a:pt x="18256" y="13395"/>
                </a:cubicBezTo>
                <a:cubicBezTo>
                  <a:pt x="18367" y="13395"/>
                  <a:pt x="18410" y="13391"/>
                  <a:pt x="18479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0360" y="4616280"/>
            <a:ext cx="1411560" cy="509760"/>
          </a:xfrm>
          <a:custGeom>
            <a:avLst/>
            <a:gdLst/>
            <a:ahLst/>
            <a:rect l="l" t="t" r="r" b="b"/>
            <a:pathLst>
              <a:path w="3921" h="1415">
                <a:moveTo>
                  <a:pt x="19075" y="13295"/>
                </a:moveTo>
                <a:cubicBezTo>
                  <a:pt x="19041" y="13284"/>
                  <a:pt x="19032" y="13261"/>
                  <a:pt x="19025" y="13370"/>
                </a:cubicBezTo>
                <a:cubicBezTo>
                  <a:pt x="19025" y="13543"/>
                  <a:pt x="19025" y="13585"/>
                  <a:pt x="19025" y="13692"/>
                </a:cubicBezTo>
                <a:cubicBezTo>
                  <a:pt x="19025" y="13755"/>
                  <a:pt x="19024" y="13377"/>
                  <a:pt x="19025" y="13370"/>
                </a:cubicBezTo>
                <a:cubicBezTo>
                  <a:pt x="19068" y="13242"/>
                  <a:pt x="19072" y="13212"/>
                  <a:pt x="19124" y="13146"/>
                </a:cubicBezTo>
                <a:cubicBezTo>
                  <a:pt x="19240" y="13306"/>
                  <a:pt x="19305" y="13452"/>
                  <a:pt x="19372" y="13643"/>
                </a:cubicBezTo>
                <a:cubicBezTo>
                  <a:pt x="19341" y="13802"/>
                  <a:pt x="19341" y="13361"/>
                  <a:pt x="19348" y="13345"/>
                </a:cubicBezTo>
                <a:cubicBezTo>
                  <a:pt x="19435" y="13236"/>
                  <a:pt x="19450" y="13199"/>
                  <a:pt x="19546" y="13196"/>
                </a:cubicBezTo>
                <a:cubicBezTo>
                  <a:pt x="19660" y="13379"/>
                  <a:pt x="19720" y="13494"/>
                  <a:pt x="19720" y="13717"/>
                </a:cubicBezTo>
              </a:path>
              <a:path w="3921" h="1415">
                <a:moveTo>
                  <a:pt x="20017" y="13171"/>
                </a:moveTo>
                <a:cubicBezTo>
                  <a:pt x="20017" y="13357"/>
                  <a:pt x="19984" y="13554"/>
                  <a:pt x="20092" y="13692"/>
                </a:cubicBezTo>
                <a:cubicBezTo>
                  <a:pt x="20264" y="13531"/>
                  <a:pt x="20339" y="13407"/>
                  <a:pt x="20365" y="13171"/>
                </a:cubicBezTo>
                <a:cubicBezTo>
                  <a:pt x="20365" y="13163"/>
                  <a:pt x="20365" y="13154"/>
                  <a:pt x="20365" y="13146"/>
                </a:cubicBezTo>
                <a:cubicBezTo>
                  <a:pt x="20352" y="13245"/>
                  <a:pt x="20273" y="13682"/>
                  <a:pt x="20439" y="13717"/>
                </a:cubicBezTo>
                <a:cubicBezTo>
                  <a:pt x="20472" y="13700"/>
                  <a:pt x="20505" y="13684"/>
                  <a:pt x="20538" y="13667"/>
                </a:cubicBezTo>
              </a:path>
              <a:path w="3921" h="1415">
                <a:moveTo>
                  <a:pt x="21084" y="12824"/>
                </a:moveTo>
                <a:cubicBezTo>
                  <a:pt x="21161" y="13098"/>
                  <a:pt x="21158" y="13357"/>
                  <a:pt x="21158" y="13643"/>
                </a:cubicBezTo>
                <a:cubicBezTo>
                  <a:pt x="21158" y="13704"/>
                  <a:pt x="21149" y="13738"/>
                  <a:pt x="21183" y="13692"/>
                </a:cubicBezTo>
              </a:path>
              <a:path w="3921" h="1415">
                <a:moveTo>
                  <a:pt x="20786" y="13271"/>
                </a:moveTo>
                <a:cubicBezTo>
                  <a:pt x="20980" y="13271"/>
                  <a:pt x="21168" y="13285"/>
                  <a:pt x="21357" y="13271"/>
                </a:cubicBezTo>
                <a:cubicBezTo>
                  <a:pt x="21410" y="13267"/>
                  <a:pt x="21414" y="13276"/>
                  <a:pt x="21431" y="13320"/>
                </a:cubicBezTo>
                <a:cubicBezTo>
                  <a:pt x="21487" y="13468"/>
                  <a:pt x="21658" y="13904"/>
                  <a:pt x="21580" y="13767"/>
                </a:cubicBezTo>
                <a:cubicBezTo>
                  <a:pt x="21572" y="13742"/>
                  <a:pt x="21563" y="13717"/>
                  <a:pt x="21555" y="13692"/>
                </a:cubicBezTo>
              </a:path>
              <a:path w="3921" h="1415">
                <a:moveTo>
                  <a:pt x="21605" y="13295"/>
                </a:moveTo>
                <a:cubicBezTo>
                  <a:pt x="21714" y="13542"/>
                  <a:pt x="21848" y="13786"/>
                  <a:pt x="21779" y="14064"/>
                </a:cubicBezTo>
                <a:cubicBezTo>
                  <a:pt x="21733" y="14110"/>
                  <a:pt x="21725" y="14089"/>
                  <a:pt x="21754" y="13965"/>
                </a:cubicBezTo>
              </a:path>
              <a:path w="3921" h="1415">
                <a:moveTo>
                  <a:pt x="22225" y="12824"/>
                </a:moveTo>
                <a:cubicBezTo>
                  <a:pt x="22248" y="13098"/>
                  <a:pt x="22297" y="13369"/>
                  <a:pt x="22324" y="13643"/>
                </a:cubicBezTo>
                <a:cubicBezTo>
                  <a:pt x="22324" y="13659"/>
                  <a:pt x="22324" y="13676"/>
                  <a:pt x="22324" y="13692"/>
                </a:cubicBezTo>
              </a:path>
              <a:path w="3921" h="1415">
                <a:moveTo>
                  <a:pt x="22547" y="13320"/>
                </a:moveTo>
                <a:cubicBezTo>
                  <a:pt x="22551" y="13376"/>
                  <a:pt x="22584" y="13933"/>
                  <a:pt x="22796" y="13667"/>
                </a:cubicBezTo>
                <a:cubicBezTo>
                  <a:pt x="22869" y="13496"/>
                  <a:pt x="22893" y="13441"/>
                  <a:pt x="22920" y="13320"/>
                </a:cubicBezTo>
                <a:cubicBezTo>
                  <a:pt x="22889" y="13441"/>
                  <a:pt x="22908" y="13845"/>
                  <a:pt x="22796" y="14039"/>
                </a:cubicBezTo>
                <a:cubicBezTo>
                  <a:pt x="22621" y="14214"/>
                  <a:pt x="22562" y="14272"/>
                  <a:pt x="22374" y="14238"/>
                </a:cubicBezTo>
              </a:path>
              <a:path w="3921" h="1415">
                <a:moveTo>
                  <a:pt x="20662" y="12849"/>
                </a:moveTo>
                <a:cubicBezTo>
                  <a:pt x="20662" y="12841"/>
                  <a:pt x="20662" y="12832"/>
                  <a:pt x="20662" y="12824"/>
                </a:cubicBezTo>
                <a:cubicBezTo>
                  <a:pt x="20721" y="12961"/>
                  <a:pt x="20710" y="13164"/>
                  <a:pt x="20712" y="13320"/>
                </a:cubicBezTo>
                <a:cubicBezTo>
                  <a:pt x="20714" y="13442"/>
                  <a:pt x="20687" y="13549"/>
                  <a:pt x="20687" y="13667"/>
                </a:cubicBezTo>
                <a:cubicBezTo>
                  <a:pt x="20687" y="13692"/>
                  <a:pt x="20687" y="13700"/>
                  <a:pt x="20687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45120" y="5153040"/>
            <a:ext cx="2652840" cy="303120"/>
          </a:xfrm>
          <a:custGeom>
            <a:avLst/>
            <a:gdLst/>
            <a:ahLst/>
            <a:rect l="l" t="t" r="r" b="b"/>
            <a:pathLst>
              <a:path w="7368" h="845">
                <a:moveTo>
                  <a:pt x="16793" y="14511"/>
                </a:moveTo>
                <a:lnTo>
                  <a:pt x="16793" y="14511"/>
                </a:lnTo>
                <a:lnTo>
                  <a:pt x="16793" y="14511"/>
                </a:lnTo>
              </a:path>
              <a:path w="7368" h="845">
                <a:moveTo>
                  <a:pt x="16793" y="14511"/>
                </a:moveTo>
                <a:lnTo>
                  <a:pt x="16793" y="14511"/>
                </a:lnTo>
              </a:path>
              <a:path w="7368" h="845">
                <a:moveTo>
                  <a:pt x="18107" y="14536"/>
                </a:moveTo>
                <a:cubicBezTo>
                  <a:pt x="18133" y="14654"/>
                  <a:pt x="18150" y="14763"/>
                  <a:pt x="18157" y="14883"/>
                </a:cubicBezTo>
              </a:path>
              <a:path w="7368" h="845">
                <a:moveTo>
                  <a:pt x="18107" y="14312"/>
                </a:moveTo>
                <a:cubicBezTo>
                  <a:pt x="18124" y="14312"/>
                  <a:pt x="18140" y="14312"/>
                  <a:pt x="18157" y="14312"/>
                </a:cubicBezTo>
              </a:path>
              <a:path w="7368" h="845">
                <a:moveTo>
                  <a:pt x="18157" y="14312"/>
                </a:moveTo>
                <a:lnTo>
                  <a:pt x="18157" y="14312"/>
                </a:lnTo>
              </a:path>
              <a:path w="7368" h="845">
                <a:moveTo>
                  <a:pt x="18653" y="14486"/>
                </a:moveTo>
                <a:cubicBezTo>
                  <a:pt x="18551" y="14409"/>
                  <a:pt x="18444" y="14602"/>
                  <a:pt x="18430" y="14684"/>
                </a:cubicBezTo>
                <a:cubicBezTo>
                  <a:pt x="18386" y="14940"/>
                  <a:pt x="18631" y="14811"/>
                  <a:pt x="18728" y="14784"/>
                </a:cubicBezTo>
              </a:path>
              <a:path w="7368" h="845">
                <a:moveTo>
                  <a:pt x="20910" y="14833"/>
                </a:moveTo>
                <a:cubicBezTo>
                  <a:pt x="20916" y="14973"/>
                  <a:pt x="20911" y="15034"/>
                  <a:pt x="20960" y="15156"/>
                </a:cubicBezTo>
              </a:path>
              <a:path w="7368" h="845">
                <a:moveTo>
                  <a:pt x="20861" y="14585"/>
                </a:moveTo>
                <a:lnTo>
                  <a:pt x="20861" y="14585"/>
                </a:lnTo>
                <a:lnTo>
                  <a:pt x="20861" y="14585"/>
                </a:lnTo>
              </a:path>
              <a:path w="7368" h="845">
                <a:moveTo>
                  <a:pt x="20861" y="14585"/>
                </a:moveTo>
                <a:lnTo>
                  <a:pt x="20861" y="14585"/>
                </a:lnTo>
              </a:path>
              <a:path w="7368" h="845">
                <a:moveTo>
                  <a:pt x="20985" y="14784"/>
                </a:moveTo>
                <a:cubicBezTo>
                  <a:pt x="21163" y="14795"/>
                  <a:pt x="21259" y="14810"/>
                  <a:pt x="21382" y="14932"/>
                </a:cubicBezTo>
                <a:cubicBezTo>
                  <a:pt x="21285" y="15056"/>
                  <a:pt x="21257" y="15078"/>
                  <a:pt x="21134" y="14982"/>
                </a:cubicBezTo>
              </a:path>
              <a:path w="7368" h="845">
                <a:moveTo>
                  <a:pt x="22423" y="14684"/>
                </a:moveTo>
                <a:cubicBezTo>
                  <a:pt x="22206" y="14730"/>
                  <a:pt x="22149" y="14786"/>
                  <a:pt x="22200" y="15007"/>
                </a:cubicBezTo>
                <a:cubicBezTo>
                  <a:pt x="22423" y="15021"/>
                  <a:pt x="22362" y="15005"/>
                  <a:pt x="22473" y="14784"/>
                </a:cubicBezTo>
              </a:path>
              <a:path w="7368" h="845">
                <a:moveTo>
                  <a:pt x="24160" y="14337"/>
                </a:moveTo>
                <a:lnTo>
                  <a:pt x="24160" y="1433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70240" y="5037120"/>
            <a:ext cx="277920" cy="419040"/>
          </a:xfrm>
          <a:custGeom>
            <a:avLst/>
            <a:gdLst/>
            <a:ahLst/>
            <a:rect l="l" t="t" r="r" b="b"/>
            <a:pathLst>
              <a:path w="770" h="1167">
                <a:moveTo>
                  <a:pt x="11584" y="13990"/>
                </a:moveTo>
                <a:cubicBezTo>
                  <a:pt x="11602" y="14192"/>
                  <a:pt x="11649" y="14386"/>
                  <a:pt x="11683" y="14585"/>
                </a:cubicBezTo>
                <a:cubicBezTo>
                  <a:pt x="11667" y="14683"/>
                  <a:pt x="11638" y="14509"/>
                  <a:pt x="11658" y="14412"/>
                </a:cubicBezTo>
                <a:cubicBezTo>
                  <a:pt x="11731" y="14065"/>
                  <a:pt x="11949" y="14337"/>
                  <a:pt x="12030" y="14486"/>
                </a:cubicBezTo>
                <a:cubicBezTo>
                  <a:pt x="11990" y="14557"/>
                  <a:pt x="11721" y="14922"/>
                  <a:pt x="11584" y="14709"/>
                </a:cubicBezTo>
                <a:cubicBezTo>
                  <a:pt x="11592" y="14684"/>
                  <a:pt x="11601" y="14660"/>
                  <a:pt x="11609" y="14635"/>
                </a:cubicBezTo>
              </a:path>
              <a:path w="770" h="1167">
                <a:moveTo>
                  <a:pt x="11956" y="14362"/>
                </a:moveTo>
                <a:cubicBezTo>
                  <a:pt x="11977" y="14432"/>
                  <a:pt x="12041" y="14765"/>
                  <a:pt x="12179" y="14684"/>
                </a:cubicBezTo>
                <a:cubicBezTo>
                  <a:pt x="12316" y="14603"/>
                  <a:pt x="12265" y="14431"/>
                  <a:pt x="12254" y="14312"/>
                </a:cubicBezTo>
                <a:cubicBezTo>
                  <a:pt x="12254" y="14329"/>
                  <a:pt x="12254" y="14345"/>
                  <a:pt x="12254" y="14362"/>
                </a:cubicBezTo>
                <a:cubicBezTo>
                  <a:pt x="12309" y="14545"/>
                  <a:pt x="12488" y="14975"/>
                  <a:pt x="12278" y="15131"/>
                </a:cubicBezTo>
                <a:cubicBezTo>
                  <a:pt x="12145" y="15230"/>
                  <a:pt x="11968" y="15134"/>
                  <a:pt x="11857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5027760"/>
            <a:ext cx="571680" cy="339480"/>
          </a:xfrm>
          <a:custGeom>
            <a:avLst/>
            <a:gdLst/>
            <a:ahLst/>
            <a:rect l="l" t="t" r="r" b="b"/>
            <a:pathLst>
              <a:path w="1588" h="944">
                <a:moveTo>
                  <a:pt x="13345" y="13965"/>
                </a:moveTo>
                <a:cubicBezTo>
                  <a:pt x="13409" y="14234"/>
                  <a:pt x="13491" y="14512"/>
                  <a:pt x="13543" y="14784"/>
                </a:cubicBezTo>
                <a:cubicBezTo>
                  <a:pt x="13543" y="14842"/>
                  <a:pt x="13543" y="14883"/>
                  <a:pt x="13543" y="14833"/>
                </a:cubicBezTo>
              </a:path>
              <a:path w="1588" h="944">
                <a:moveTo>
                  <a:pt x="13122" y="14536"/>
                </a:moveTo>
                <a:cubicBezTo>
                  <a:pt x="13311" y="14556"/>
                  <a:pt x="13822" y="14653"/>
                  <a:pt x="13791" y="14312"/>
                </a:cubicBezTo>
                <a:cubicBezTo>
                  <a:pt x="13730" y="14169"/>
                  <a:pt x="13723" y="14139"/>
                  <a:pt x="13667" y="14064"/>
                </a:cubicBezTo>
                <a:cubicBezTo>
                  <a:pt x="13724" y="14285"/>
                  <a:pt x="13796" y="14509"/>
                  <a:pt x="13841" y="14734"/>
                </a:cubicBezTo>
                <a:cubicBezTo>
                  <a:pt x="13841" y="14751"/>
                  <a:pt x="13841" y="14767"/>
                  <a:pt x="13841" y="14784"/>
                </a:cubicBezTo>
                <a:cubicBezTo>
                  <a:pt x="13789" y="14577"/>
                  <a:pt x="13834" y="14488"/>
                  <a:pt x="13965" y="14337"/>
                </a:cubicBezTo>
                <a:cubicBezTo>
                  <a:pt x="14159" y="14492"/>
                  <a:pt x="14177" y="14547"/>
                  <a:pt x="14238" y="14784"/>
                </a:cubicBezTo>
              </a:path>
              <a:path w="1588" h="944">
                <a:moveTo>
                  <a:pt x="14337" y="14486"/>
                </a:moveTo>
                <a:cubicBezTo>
                  <a:pt x="14439" y="14515"/>
                  <a:pt x="14591" y="14522"/>
                  <a:pt x="14684" y="14560"/>
                </a:cubicBezTo>
                <a:cubicBezTo>
                  <a:pt x="14684" y="14568"/>
                  <a:pt x="14684" y="14577"/>
                  <a:pt x="14684" y="14585"/>
                </a:cubicBezTo>
                <a:cubicBezTo>
                  <a:pt x="14665" y="14485"/>
                  <a:pt x="14593" y="14325"/>
                  <a:pt x="14461" y="14337"/>
                </a:cubicBezTo>
                <a:cubicBezTo>
                  <a:pt x="14197" y="14362"/>
                  <a:pt x="14253" y="14817"/>
                  <a:pt x="14436" y="14908"/>
                </a:cubicBezTo>
                <a:cubicBezTo>
                  <a:pt x="14594" y="14908"/>
                  <a:pt x="14650" y="14902"/>
                  <a:pt x="14709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10160" y="5205240"/>
            <a:ext cx="1000080" cy="339840"/>
          </a:xfrm>
          <a:custGeom>
            <a:avLst/>
            <a:gdLst/>
            <a:ahLst/>
            <a:rect l="l" t="t" r="r" b="b"/>
            <a:pathLst>
              <a:path w="2780" h="944">
                <a:moveTo>
                  <a:pt x="15304" y="14560"/>
                </a:moveTo>
                <a:cubicBezTo>
                  <a:pt x="15365" y="14676"/>
                  <a:pt x="15407" y="14753"/>
                  <a:pt x="15429" y="14883"/>
                </a:cubicBezTo>
                <a:cubicBezTo>
                  <a:pt x="15388" y="14667"/>
                  <a:pt x="15384" y="14572"/>
                  <a:pt x="15602" y="14486"/>
                </a:cubicBezTo>
                <a:cubicBezTo>
                  <a:pt x="15709" y="14459"/>
                  <a:pt x="15750" y="14452"/>
                  <a:pt x="15825" y="14486"/>
                </a:cubicBezTo>
              </a:path>
              <a:path w="2780" h="944">
                <a:moveTo>
                  <a:pt x="15751" y="14660"/>
                </a:moveTo>
                <a:cubicBezTo>
                  <a:pt x="15892" y="14644"/>
                  <a:pt x="16022" y="14646"/>
                  <a:pt x="16073" y="14511"/>
                </a:cubicBezTo>
                <a:cubicBezTo>
                  <a:pt x="15896" y="14458"/>
                  <a:pt x="15668" y="14501"/>
                  <a:pt x="15776" y="14784"/>
                </a:cubicBezTo>
                <a:cubicBezTo>
                  <a:pt x="15896" y="14927"/>
                  <a:pt x="15931" y="14976"/>
                  <a:pt x="16073" y="14957"/>
                </a:cubicBezTo>
              </a:path>
              <a:path w="2780" h="944">
                <a:moveTo>
                  <a:pt x="16470" y="14560"/>
                </a:moveTo>
                <a:cubicBezTo>
                  <a:pt x="16489" y="14618"/>
                  <a:pt x="16498" y="14661"/>
                  <a:pt x="16495" y="14610"/>
                </a:cubicBezTo>
                <a:cubicBezTo>
                  <a:pt x="16329" y="14461"/>
                  <a:pt x="16233" y="14611"/>
                  <a:pt x="16247" y="14833"/>
                </a:cubicBezTo>
                <a:cubicBezTo>
                  <a:pt x="16267" y="15141"/>
                  <a:pt x="16456" y="15029"/>
                  <a:pt x="16644" y="14982"/>
                </a:cubicBezTo>
              </a:path>
              <a:path w="2780" h="944">
                <a:moveTo>
                  <a:pt x="16818" y="14734"/>
                </a:moveTo>
                <a:cubicBezTo>
                  <a:pt x="16840" y="14837"/>
                  <a:pt x="16844" y="15031"/>
                  <a:pt x="16917" y="15032"/>
                </a:cubicBezTo>
              </a:path>
              <a:path w="2780" h="944">
                <a:moveTo>
                  <a:pt x="17190" y="14734"/>
                </a:moveTo>
                <a:cubicBezTo>
                  <a:pt x="17236" y="14957"/>
                  <a:pt x="17275" y="15180"/>
                  <a:pt x="17314" y="15404"/>
                </a:cubicBezTo>
                <a:cubicBezTo>
                  <a:pt x="17297" y="15336"/>
                  <a:pt x="17248" y="15289"/>
                  <a:pt x="17239" y="15205"/>
                </a:cubicBezTo>
                <a:cubicBezTo>
                  <a:pt x="17228" y="15094"/>
                  <a:pt x="17162" y="14942"/>
                  <a:pt x="17165" y="14833"/>
                </a:cubicBezTo>
                <a:cubicBezTo>
                  <a:pt x="17169" y="14677"/>
                  <a:pt x="17333" y="14426"/>
                  <a:pt x="17512" y="14610"/>
                </a:cubicBezTo>
                <a:cubicBezTo>
                  <a:pt x="17712" y="14816"/>
                  <a:pt x="17418" y="14893"/>
                  <a:pt x="17289" y="14908"/>
                </a:cubicBezTo>
              </a:path>
              <a:path w="2780" h="944">
                <a:moveTo>
                  <a:pt x="17711" y="14660"/>
                </a:moveTo>
                <a:cubicBezTo>
                  <a:pt x="17724" y="14750"/>
                  <a:pt x="17744" y="14781"/>
                  <a:pt x="17785" y="14858"/>
                </a:cubicBezTo>
                <a:cubicBezTo>
                  <a:pt x="17797" y="14762"/>
                  <a:pt x="17800" y="14598"/>
                  <a:pt x="17909" y="14560"/>
                </a:cubicBezTo>
                <a:cubicBezTo>
                  <a:pt x="17961" y="14542"/>
                  <a:pt x="18031" y="14579"/>
                  <a:pt x="18083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50000" y="5081760"/>
            <a:ext cx="696960" cy="392040"/>
          </a:xfrm>
          <a:custGeom>
            <a:avLst/>
            <a:gdLst/>
            <a:ahLst/>
            <a:rect l="l" t="t" r="r" b="b"/>
            <a:pathLst>
              <a:path w="1936" h="1092">
                <a:moveTo>
                  <a:pt x="18876" y="14486"/>
                </a:moveTo>
                <a:cubicBezTo>
                  <a:pt x="18772" y="14629"/>
                  <a:pt x="18704" y="14736"/>
                  <a:pt x="18802" y="14883"/>
                </a:cubicBezTo>
                <a:cubicBezTo>
                  <a:pt x="18912" y="14782"/>
                  <a:pt x="18932" y="14729"/>
                  <a:pt x="18976" y="14585"/>
                </a:cubicBezTo>
                <a:cubicBezTo>
                  <a:pt x="18992" y="14684"/>
                  <a:pt x="19041" y="14998"/>
                  <a:pt x="19224" y="14858"/>
                </a:cubicBezTo>
                <a:cubicBezTo>
                  <a:pt x="19257" y="14808"/>
                  <a:pt x="19290" y="14759"/>
                  <a:pt x="19323" y="14709"/>
                </a:cubicBezTo>
              </a:path>
              <a:path w="1936" h="1092">
                <a:moveTo>
                  <a:pt x="19298" y="14213"/>
                </a:moveTo>
                <a:cubicBezTo>
                  <a:pt x="19281" y="14180"/>
                  <a:pt x="19265" y="14147"/>
                  <a:pt x="19248" y="14114"/>
                </a:cubicBezTo>
                <a:cubicBezTo>
                  <a:pt x="19248" y="14369"/>
                  <a:pt x="19222" y="14646"/>
                  <a:pt x="19397" y="14858"/>
                </a:cubicBezTo>
                <a:cubicBezTo>
                  <a:pt x="19485" y="14903"/>
                  <a:pt x="19506" y="14919"/>
                  <a:pt x="19571" y="14908"/>
                </a:cubicBezTo>
              </a:path>
              <a:path w="1936" h="1092">
                <a:moveTo>
                  <a:pt x="19993" y="14213"/>
                </a:moveTo>
                <a:cubicBezTo>
                  <a:pt x="20030" y="14310"/>
                  <a:pt x="19938" y="14374"/>
                  <a:pt x="19893" y="14486"/>
                </a:cubicBezTo>
                <a:cubicBezTo>
                  <a:pt x="19765" y="14804"/>
                  <a:pt x="19772" y="14937"/>
                  <a:pt x="19993" y="15180"/>
                </a:cubicBezTo>
                <a:cubicBezTo>
                  <a:pt x="20001" y="15188"/>
                  <a:pt x="20009" y="15197"/>
                  <a:pt x="20017" y="15205"/>
                </a:cubicBezTo>
              </a:path>
              <a:path w="1936" h="1092">
                <a:moveTo>
                  <a:pt x="20513" y="14412"/>
                </a:moveTo>
                <a:cubicBezTo>
                  <a:pt x="20504" y="14338"/>
                  <a:pt x="20463" y="14166"/>
                  <a:pt x="20340" y="14238"/>
                </a:cubicBezTo>
                <a:cubicBezTo>
                  <a:pt x="20161" y="14342"/>
                  <a:pt x="20237" y="14708"/>
                  <a:pt x="20290" y="14858"/>
                </a:cubicBezTo>
                <a:cubicBezTo>
                  <a:pt x="20331" y="14939"/>
                  <a:pt x="20348" y="14952"/>
                  <a:pt x="20340" y="15007"/>
                </a:cubicBezTo>
              </a:path>
              <a:path w="1936" h="1092">
                <a:moveTo>
                  <a:pt x="20117" y="14784"/>
                </a:moveTo>
                <a:cubicBezTo>
                  <a:pt x="20257" y="14784"/>
                  <a:pt x="20398" y="14784"/>
                  <a:pt x="20538" y="14784"/>
                </a:cubicBezTo>
              </a:path>
              <a:path w="1936" h="1092">
                <a:moveTo>
                  <a:pt x="20588" y="14362"/>
                </a:moveTo>
                <a:cubicBezTo>
                  <a:pt x="20642" y="14549"/>
                  <a:pt x="20665" y="14760"/>
                  <a:pt x="20687" y="14957"/>
                </a:cubicBezTo>
                <a:cubicBezTo>
                  <a:pt x="20687" y="14974"/>
                  <a:pt x="20687" y="14990"/>
                  <a:pt x="20687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89880" y="5010120"/>
            <a:ext cx="1447920" cy="507960"/>
          </a:xfrm>
          <a:custGeom>
            <a:avLst/>
            <a:gdLst/>
            <a:ahLst/>
            <a:rect l="l" t="t" r="r" b="b"/>
            <a:pathLst>
              <a:path w="4019" h="1415">
                <a:moveTo>
                  <a:pt x="21084" y="14883"/>
                </a:moveTo>
                <a:cubicBezTo>
                  <a:pt x="21116" y="14979"/>
                  <a:pt x="21251" y="15223"/>
                  <a:pt x="21208" y="15329"/>
                </a:cubicBezTo>
                <a:cubicBezTo>
                  <a:pt x="21200" y="15329"/>
                  <a:pt x="21191" y="15329"/>
                  <a:pt x="21183" y="15329"/>
                </a:cubicBezTo>
              </a:path>
              <a:path w="4019" h="1415">
                <a:moveTo>
                  <a:pt x="21506" y="14808"/>
                </a:moveTo>
                <a:cubicBezTo>
                  <a:pt x="21537" y="14919"/>
                  <a:pt x="21616" y="15227"/>
                  <a:pt x="21630" y="15255"/>
                </a:cubicBezTo>
              </a:path>
              <a:path w="4019" h="1415">
                <a:moveTo>
                  <a:pt x="21406" y="14734"/>
                </a:moveTo>
                <a:cubicBezTo>
                  <a:pt x="21653" y="14762"/>
                  <a:pt x="21844" y="14763"/>
                  <a:pt x="21828" y="15007"/>
                </a:cubicBezTo>
                <a:cubicBezTo>
                  <a:pt x="21671" y="15050"/>
                  <a:pt x="21659" y="15072"/>
                  <a:pt x="21555" y="14957"/>
                </a:cubicBezTo>
              </a:path>
              <a:path w="4019" h="1415">
                <a:moveTo>
                  <a:pt x="21927" y="14808"/>
                </a:moveTo>
                <a:cubicBezTo>
                  <a:pt x="22003" y="14787"/>
                  <a:pt x="22058" y="14751"/>
                  <a:pt x="22126" y="14709"/>
                </a:cubicBezTo>
                <a:cubicBezTo>
                  <a:pt x="22041" y="14700"/>
                  <a:pt x="21805" y="14770"/>
                  <a:pt x="21903" y="14932"/>
                </a:cubicBezTo>
                <a:cubicBezTo>
                  <a:pt x="22036" y="14999"/>
                  <a:pt x="22106" y="15012"/>
                  <a:pt x="22225" y="14957"/>
                </a:cubicBezTo>
              </a:path>
              <a:path w="4019" h="1415">
                <a:moveTo>
                  <a:pt x="22399" y="14387"/>
                </a:moveTo>
                <a:cubicBezTo>
                  <a:pt x="22399" y="14423"/>
                  <a:pt x="22439" y="14783"/>
                  <a:pt x="22448" y="14908"/>
                </a:cubicBezTo>
                <a:cubicBezTo>
                  <a:pt x="22448" y="14982"/>
                  <a:pt x="22448" y="14991"/>
                  <a:pt x="22448" y="15032"/>
                </a:cubicBezTo>
              </a:path>
              <a:path w="4019" h="1415">
                <a:moveTo>
                  <a:pt x="23192" y="14585"/>
                </a:moveTo>
                <a:cubicBezTo>
                  <a:pt x="23235" y="14457"/>
                  <a:pt x="23206" y="14393"/>
                  <a:pt x="23093" y="14312"/>
                </a:cubicBezTo>
                <a:cubicBezTo>
                  <a:pt x="23077" y="14304"/>
                  <a:pt x="23060" y="14296"/>
                  <a:pt x="23044" y="14288"/>
                </a:cubicBezTo>
                <a:cubicBezTo>
                  <a:pt x="22870" y="14442"/>
                  <a:pt x="22978" y="14594"/>
                  <a:pt x="23044" y="14808"/>
                </a:cubicBezTo>
                <a:cubicBezTo>
                  <a:pt x="23062" y="14882"/>
                  <a:pt x="23070" y="14889"/>
                  <a:pt x="23068" y="14932"/>
                </a:cubicBezTo>
              </a:path>
              <a:path w="4019" h="1415">
                <a:moveTo>
                  <a:pt x="22771" y="14709"/>
                </a:moveTo>
                <a:cubicBezTo>
                  <a:pt x="22899" y="14695"/>
                  <a:pt x="23231" y="14598"/>
                  <a:pt x="23292" y="14759"/>
                </a:cubicBezTo>
                <a:cubicBezTo>
                  <a:pt x="23341" y="14888"/>
                  <a:pt x="23248" y="14964"/>
                  <a:pt x="23316" y="14759"/>
                </a:cubicBezTo>
                <a:cubicBezTo>
                  <a:pt x="23357" y="14637"/>
                  <a:pt x="23361" y="14611"/>
                  <a:pt x="23465" y="14585"/>
                </a:cubicBezTo>
              </a:path>
              <a:path w="4019" h="1415">
                <a:moveTo>
                  <a:pt x="23564" y="14635"/>
                </a:moveTo>
                <a:cubicBezTo>
                  <a:pt x="23540" y="14720"/>
                  <a:pt x="23459" y="14807"/>
                  <a:pt x="23416" y="14908"/>
                </a:cubicBezTo>
                <a:cubicBezTo>
                  <a:pt x="23529" y="14869"/>
                  <a:pt x="23558" y="14788"/>
                  <a:pt x="23614" y="14684"/>
                </a:cubicBezTo>
                <a:cubicBezTo>
                  <a:pt x="23630" y="14812"/>
                  <a:pt x="23671" y="14818"/>
                  <a:pt x="23788" y="14808"/>
                </a:cubicBezTo>
              </a:path>
              <a:path w="4019" h="1415">
                <a:moveTo>
                  <a:pt x="23961" y="14635"/>
                </a:moveTo>
                <a:cubicBezTo>
                  <a:pt x="23916" y="14566"/>
                  <a:pt x="23794" y="14612"/>
                  <a:pt x="23763" y="14709"/>
                </a:cubicBezTo>
                <a:cubicBezTo>
                  <a:pt x="23680" y="14964"/>
                  <a:pt x="23964" y="14881"/>
                  <a:pt x="24061" y="14784"/>
                </a:cubicBezTo>
                <a:cubicBezTo>
                  <a:pt x="24102" y="14726"/>
                  <a:pt x="24144" y="14668"/>
                  <a:pt x="24185" y="14610"/>
                </a:cubicBezTo>
              </a:path>
              <a:path w="4019" h="1415">
                <a:moveTo>
                  <a:pt x="24160" y="14312"/>
                </a:moveTo>
                <a:cubicBezTo>
                  <a:pt x="24133" y="14494"/>
                  <a:pt x="24135" y="14673"/>
                  <a:pt x="24135" y="14858"/>
                </a:cubicBezTo>
              </a:path>
              <a:path w="4019" h="1415">
                <a:moveTo>
                  <a:pt x="23862" y="14560"/>
                </a:moveTo>
                <a:cubicBezTo>
                  <a:pt x="23974" y="14554"/>
                  <a:pt x="24214" y="14473"/>
                  <a:pt x="24234" y="14610"/>
                </a:cubicBezTo>
                <a:cubicBezTo>
                  <a:pt x="24247" y="14696"/>
                  <a:pt x="24228" y="14743"/>
                  <a:pt x="24185" y="14808"/>
                </a:cubicBezTo>
              </a:path>
              <a:path w="4019" h="1415">
                <a:moveTo>
                  <a:pt x="24408" y="14511"/>
                </a:moveTo>
                <a:cubicBezTo>
                  <a:pt x="24280" y="14510"/>
                  <a:pt x="24254" y="14605"/>
                  <a:pt x="24234" y="14734"/>
                </a:cubicBezTo>
                <a:cubicBezTo>
                  <a:pt x="24344" y="14762"/>
                  <a:pt x="24456" y="14772"/>
                  <a:pt x="24457" y="14610"/>
                </a:cubicBezTo>
                <a:cubicBezTo>
                  <a:pt x="24457" y="14587"/>
                  <a:pt x="24430" y="14451"/>
                  <a:pt x="24532" y="14536"/>
                </a:cubicBezTo>
                <a:cubicBezTo>
                  <a:pt x="24583" y="14579"/>
                  <a:pt x="24596" y="14650"/>
                  <a:pt x="24606" y="14709"/>
                </a:cubicBezTo>
                <a:cubicBezTo>
                  <a:pt x="24619" y="14633"/>
                  <a:pt x="24642" y="14603"/>
                  <a:pt x="24681" y="14536"/>
                </a:cubicBezTo>
                <a:cubicBezTo>
                  <a:pt x="24725" y="14601"/>
                  <a:pt x="24767" y="14666"/>
                  <a:pt x="24805" y="14734"/>
                </a:cubicBezTo>
              </a:path>
              <a:path w="4019" h="1415">
                <a:moveTo>
                  <a:pt x="24681" y="13940"/>
                </a:moveTo>
                <a:cubicBezTo>
                  <a:pt x="24609" y="13868"/>
                  <a:pt x="24921" y="14226"/>
                  <a:pt x="24929" y="14238"/>
                </a:cubicBezTo>
                <a:cubicBezTo>
                  <a:pt x="25092" y="14476"/>
                  <a:pt x="25140" y="14645"/>
                  <a:pt x="25003" y="14908"/>
                </a:cubicBezTo>
                <a:cubicBezTo>
                  <a:pt x="24958" y="14995"/>
                  <a:pt x="24933" y="15016"/>
                  <a:pt x="24854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25920" y="6205680"/>
            <a:ext cx="3456000" cy="322200"/>
          </a:xfrm>
          <a:custGeom>
            <a:avLst/>
            <a:gdLst/>
            <a:ahLst/>
            <a:rect l="l" t="t" r="r" b="b"/>
            <a:pathLst>
              <a:path w="9600" h="894">
                <a:moveTo>
                  <a:pt x="10071" y="17264"/>
                </a:moveTo>
                <a:cubicBezTo>
                  <a:pt x="10071" y="17256"/>
                  <a:pt x="10071" y="17247"/>
                  <a:pt x="10071" y="17239"/>
                </a:cubicBezTo>
              </a:path>
              <a:path w="9600" h="894">
                <a:moveTo>
                  <a:pt x="10195" y="17512"/>
                </a:moveTo>
                <a:cubicBezTo>
                  <a:pt x="10195" y="17520"/>
                  <a:pt x="10195" y="17529"/>
                  <a:pt x="10195" y="17537"/>
                </a:cubicBezTo>
              </a:path>
              <a:path w="9600" h="894">
                <a:moveTo>
                  <a:pt x="10790" y="17611"/>
                </a:moveTo>
                <a:cubicBezTo>
                  <a:pt x="10805" y="17748"/>
                  <a:pt x="10820" y="17897"/>
                  <a:pt x="10840" y="18033"/>
                </a:cubicBezTo>
                <a:cubicBezTo>
                  <a:pt x="10859" y="18090"/>
                  <a:pt x="10867" y="18097"/>
                  <a:pt x="10864" y="18132"/>
                </a:cubicBezTo>
              </a:path>
              <a:path w="9600" h="894">
                <a:moveTo>
                  <a:pt x="15949" y="17388"/>
                </a:moveTo>
                <a:cubicBezTo>
                  <a:pt x="15949" y="17430"/>
                  <a:pt x="15941" y="17446"/>
                  <a:pt x="15974" y="17438"/>
                </a:cubicBezTo>
              </a:path>
              <a:path w="9600" h="894">
                <a:moveTo>
                  <a:pt x="16098" y="17760"/>
                </a:moveTo>
                <a:cubicBezTo>
                  <a:pt x="16098" y="17828"/>
                  <a:pt x="16101" y="17847"/>
                  <a:pt x="16073" y="17884"/>
                </a:cubicBezTo>
              </a:path>
              <a:path w="9600" h="894">
                <a:moveTo>
                  <a:pt x="17587" y="17611"/>
                </a:moveTo>
                <a:cubicBezTo>
                  <a:pt x="17704" y="17592"/>
                  <a:pt x="17815" y="17549"/>
                  <a:pt x="17934" y="17537"/>
                </a:cubicBezTo>
              </a:path>
              <a:path w="9600" h="894">
                <a:moveTo>
                  <a:pt x="19447" y="17314"/>
                </a:moveTo>
                <a:cubicBezTo>
                  <a:pt x="19528" y="17287"/>
                  <a:pt x="19618" y="17237"/>
                  <a:pt x="19670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24160" y="5983200"/>
            <a:ext cx="1463760" cy="482760"/>
          </a:xfrm>
          <a:custGeom>
            <a:avLst/>
            <a:gdLst/>
            <a:ahLst/>
            <a:rect l="l" t="t" r="r" b="b"/>
            <a:pathLst>
              <a:path w="4069" h="1341">
                <a:moveTo>
                  <a:pt x="9475" y="16619"/>
                </a:moveTo>
                <a:cubicBezTo>
                  <a:pt x="9475" y="16705"/>
                  <a:pt x="9517" y="16730"/>
                  <a:pt x="9525" y="16842"/>
                </a:cubicBezTo>
                <a:cubicBezTo>
                  <a:pt x="9532" y="16938"/>
                  <a:pt x="9525" y="17043"/>
                  <a:pt x="9525" y="17140"/>
                </a:cubicBezTo>
              </a:path>
              <a:path w="4069" h="1341">
                <a:moveTo>
                  <a:pt x="8954" y="17363"/>
                </a:moveTo>
                <a:cubicBezTo>
                  <a:pt x="9194" y="17328"/>
                  <a:pt x="9432" y="17296"/>
                  <a:pt x="9674" y="17289"/>
                </a:cubicBezTo>
                <a:cubicBezTo>
                  <a:pt x="9715" y="17289"/>
                  <a:pt x="9723" y="17289"/>
                  <a:pt x="9748" y="17289"/>
                </a:cubicBezTo>
              </a:path>
              <a:path w="4069" h="1341">
                <a:moveTo>
                  <a:pt x="9302" y="17512"/>
                </a:moveTo>
                <a:cubicBezTo>
                  <a:pt x="9431" y="17498"/>
                  <a:pt x="9573" y="17435"/>
                  <a:pt x="9699" y="17487"/>
                </a:cubicBezTo>
                <a:cubicBezTo>
                  <a:pt x="9803" y="17530"/>
                  <a:pt x="9603" y="17645"/>
                  <a:pt x="9575" y="17661"/>
                </a:cubicBezTo>
                <a:cubicBezTo>
                  <a:pt x="9542" y="17678"/>
                  <a:pt x="9508" y="17694"/>
                  <a:pt x="9475" y="17711"/>
                </a:cubicBezTo>
                <a:cubicBezTo>
                  <a:pt x="9451" y="17711"/>
                  <a:pt x="9443" y="17711"/>
                  <a:pt x="9451" y="17686"/>
                </a:cubicBezTo>
                <a:cubicBezTo>
                  <a:pt x="9576" y="17654"/>
                  <a:pt x="9644" y="17652"/>
                  <a:pt x="9748" y="17735"/>
                </a:cubicBezTo>
                <a:cubicBezTo>
                  <a:pt x="9832" y="17802"/>
                  <a:pt x="9636" y="17946"/>
                  <a:pt x="9575" y="17959"/>
                </a:cubicBezTo>
                <a:cubicBezTo>
                  <a:pt x="9510" y="17973"/>
                  <a:pt x="9401" y="18021"/>
                  <a:pt x="9426" y="17959"/>
                </a:cubicBezTo>
                <a:cubicBezTo>
                  <a:pt x="9442" y="17920"/>
                  <a:pt x="9442" y="17934"/>
                  <a:pt x="9500" y="17934"/>
                </a:cubicBezTo>
              </a:path>
              <a:path w="4069" h="1341">
                <a:moveTo>
                  <a:pt x="10244" y="17587"/>
                </a:moveTo>
                <a:cubicBezTo>
                  <a:pt x="10244" y="17658"/>
                  <a:pt x="10270" y="17743"/>
                  <a:pt x="10195" y="17785"/>
                </a:cubicBezTo>
                <a:cubicBezTo>
                  <a:pt x="10178" y="17785"/>
                  <a:pt x="10162" y="17785"/>
                  <a:pt x="10145" y="17785"/>
                </a:cubicBezTo>
              </a:path>
              <a:path w="4069" h="1341">
                <a:moveTo>
                  <a:pt x="10220" y="16718"/>
                </a:moveTo>
                <a:cubicBezTo>
                  <a:pt x="10277" y="16676"/>
                  <a:pt x="10425" y="16630"/>
                  <a:pt x="10492" y="16619"/>
                </a:cubicBezTo>
                <a:cubicBezTo>
                  <a:pt x="10577" y="16605"/>
                  <a:pt x="10784" y="16677"/>
                  <a:pt x="10616" y="16793"/>
                </a:cubicBezTo>
                <a:cubicBezTo>
                  <a:pt x="10583" y="16801"/>
                  <a:pt x="10550" y="16810"/>
                  <a:pt x="10517" y="16818"/>
                </a:cubicBezTo>
                <a:cubicBezTo>
                  <a:pt x="10509" y="16826"/>
                  <a:pt x="10500" y="16834"/>
                  <a:pt x="10492" y="16842"/>
                </a:cubicBezTo>
                <a:cubicBezTo>
                  <a:pt x="10567" y="16832"/>
                  <a:pt x="10764" y="16796"/>
                  <a:pt x="10765" y="16942"/>
                </a:cubicBezTo>
                <a:cubicBezTo>
                  <a:pt x="10765" y="17070"/>
                  <a:pt x="10520" y="17086"/>
                  <a:pt x="10443" y="17090"/>
                </a:cubicBezTo>
                <a:cubicBezTo>
                  <a:pt x="10435" y="17090"/>
                  <a:pt x="10426" y="17090"/>
                  <a:pt x="10418" y="17090"/>
                </a:cubicBezTo>
              </a:path>
              <a:path w="4069" h="1341">
                <a:moveTo>
                  <a:pt x="10443" y="17388"/>
                </a:moveTo>
                <a:cubicBezTo>
                  <a:pt x="10589" y="17407"/>
                  <a:pt x="10735" y="17413"/>
                  <a:pt x="10889" y="17413"/>
                </a:cubicBezTo>
                <a:cubicBezTo>
                  <a:pt x="10992" y="17413"/>
                  <a:pt x="11060" y="17393"/>
                  <a:pt x="11112" y="17462"/>
                </a:cubicBezTo>
              </a:path>
              <a:path w="4069" h="1341">
                <a:moveTo>
                  <a:pt x="11361" y="17338"/>
                </a:moveTo>
                <a:cubicBezTo>
                  <a:pt x="11430" y="17350"/>
                  <a:pt x="11487" y="17363"/>
                  <a:pt x="11559" y="17363"/>
                </a:cubicBezTo>
              </a:path>
              <a:path w="4069" h="1341">
                <a:moveTo>
                  <a:pt x="11385" y="17562"/>
                </a:moveTo>
                <a:cubicBezTo>
                  <a:pt x="11432" y="17543"/>
                  <a:pt x="11635" y="17515"/>
                  <a:pt x="11658" y="17487"/>
                </a:cubicBezTo>
                <a:cubicBezTo>
                  <a:pt x="11658" y="17471"/>
                  <a:pt x="11658" y="17454"/>
                  <a:pt x="11658" y="17438"/>
                </a:cubicBezTo>
              </a:path>
              <a:path w="4069" h="1341">
                <a:moveTo>
                  <a:pt x="11981" y="16867"/>
                </a:moveTo>
                <a:cubicBezTo>
                  <a:pt x="12091" y="16844"/>
                  <a:pt x="12162" y="16829"/>
                  <a:pt x="12278" y="16842"/>
                </a:cubicBezTo>
                <a:cubicBezTo>
                  <a:pt x="12268" y="16938"/>
                  <a:pt x="12241" y="17038"/>
                  <a:pt x="12129" y="17066"/>
                </a:cubicBezTo>
                <a:cubicBezTo>
                  <a:pt x="12137" y="17058"/>
                  <a:pt x="12146" y="17049"/>
                  <a:pt x="12154" y="17041"/>
                </a:cubicBezTo>
                <a:cubicBezTo>
                  <a:pt x="12277" y="17067"/>
                  <a:pt x="12275" y="17037"/>
                  <a:pt x="12303" y="17165"/>
                </a:cubicBezTo>
                <a:cubicBezTo>
                  <a:pt x="12230" y="17216"/>
                  <a:pt x="12142" y="17277"/>
                  <a:pt x="12080" y="17214"/>
                </a:cubicBezTo>
              </a:path>
              <a:path w="4069" h="1341">
                <a:moveTo>
                  <a:pt x="11956" y="17438"/>
                </a:moveTo>
                <a:cubicBezTo>
                  <a:pt x="12098" y="17412"/>
                  <a:pt x="12312" y="17328"/>
                  <a:pt x="12452" y="17338"/>
                </a:cubicBezTo>
                <a:cubicBezTo>
                  <a:pt x="12452" y="17346"/>
                  <a:pt x="12452" y="17355"/>
                  <a:pt x="12452" y="17363"/>
                </a:cubicBezTo>
              </a:path>
              <a:path w="4069" h="1341">
                <a:moveTo>
                  <a:pt x="12055" y="17661"/>
                </a:moveTo>
                <a:cubicBezTo>
                  <a:pt x="12071" y="17656"/>
                  <a:pt x="12288" y="17551"/>
                  <a:pt x="12303" y="17636"/>
                </a:cubicBezTo>
                <a:cubicBezTo>
                  <a:pt x="12320" y="17734"/>
                  <a:pt x="12242" y="17770"/>
                  <a:pt x="12179" y="17810"/>
                </a:cubicBezTo>
                <a:cubicBezTo>
                  <a:pt x="12277" y="17820"/>
                  <a:pt x="12256" y="17803"/>
                  <a:pt x="12303" y="17884"/>
                </a:cubicBezTo>
                <a:cubicBezTo>
                  <a:pt x="12233" y="17955"/>
                  <a:pt x="12187" y="17959"/>
                  <a:pt x="12080" y="17959"/>
                </a:cubicBezTo>
              </a:path>
              <a:path w="4069" h="1341">
                <a:moveTo>
                  <a:pt x="12626" y="17413"/>
                </a:moveTo>
                <a:cubicBezTo>
                  <a:pt x="12659" y="17413"/>
                  <a:pt x="12692" y="17413"/>
                  <a:pt x="12725" y="17413"/>
                </a:cubicBezTo>
              </a:path>
              <a:path w="4069" h="1341">
                <a:moveTo>
                  <a:pt x="12650" y="17587"/>
                </a:moveTo>
                <a:cubicBezTo>
                  <a:pt x="12723" y="17556"/>
                  <a:pt x="12708" y="17575"/>
                  <a:pt x="12750" y="17512"/>
                </a:cubicBezTo>
              </a:path>
              <a:path w="4069" h="1341">
                <a:moveTo>
                  <a:pt x="12998" y="17090"/>
                </a:moveTo>
                <a:cubicBezTo>
                  <a:pt x="12998" y="17250"/>
                  <a:pt x="13013" y="17404"/>
                  <a:pt x="13022" y="17562"/>
                </a:cubicBezTo>
                <a:cubicBezTo>
                  <a:pt x="13022" y="17661"/>
                  <a:pt x="13022" y="17677"/>
                  <a:pt x="13022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68960" y="6054840"/>
            <a:ext cx="392040" cy="490320"/>
          </a:xfrm>
          <a:custGeom>
            <a:avLst/>
            <a:gdLst/>
            <a:ahLst/>
            <a:rect l="l" t="t" r="r" b="b"/>
            <a:pathLst>
              <a:path w="1092" h="1365">
                <a:moveTo>
                  <a:pt x="14709" y="16867"/>
                </a:moveTo>
                <a:cubicBezTo>
                  <a:pt x="14855" y="16846"/>
                  <a:pt x="14989" y="16853"/>
                  <a:pt x="15131" y="16842"/>
                </a:cubicBezTo>
                <a:cubicBezTo>
                  <a:pt x="15156" y="16834"/>
                  <a:pt x="15180" y="16826"/>
                  <a:pt x="15205" y="16818"/>
                </a:cubicBezTo>
                <a:cubicBezTo>
                  <a:pt x="15238" y="16933"/>
                  <a:pt x="15165" y="17085"/>
                  <a:pt x="15131" y="17214"/>
                </a:cubicBezTo>
                <a:cubicBezTo>
                  <a:pt x="15111" y="17289"/>
                  <a:pt x="15083" y="17332"/>
                  <a:pt x="15131" y="17363"/>
                </a:cubicBezTo>
              </a:path>
              <a:path w="1092" h="1365">
                <a:moveTo>
                  <a:pt x="14635" y="17487"/>
                </a:moveTo>
                <a:cubicBezTo>
                  <a:pt x="14777" y="17487"/>
                  <a:pt x="14915" y="17468"/>
                  <a:pt x="15056" y="17462"/>
                </a:cubicBezTo>
                <a:cubicBezTo>
                  <a:pt x="15271" y="17453"/>
                  <a:pt x="15486" y="17438"/>
                  <a:pt x="15701" y="17438"/>
                </a:cubicBezTo>
                <a:cubicBezTo>
                  <a:pt x="15709" y="17438"/>
                  <a:pt x="15718" y="17438"/>
                  <a:pt x="15726" y="17438"/>
                </a:cubicBezTo>
              </a:path>
              <a:path w="1092" h="1365">
                <a:moveTo>
                  <a:pt x="15255" y="17735"/>
                </a:moveTo>
                <a:cubicBezTo>
                  <a:pt x="15188" y="17649"/>
                  <a:pt x="15078" y="17685"/>
                  <a:pt x="14982" y="17735"/>
                </a:cubicBezTo>
                <a:cubicBezTo>
                  <a:pt x="14923" y="17775"/>
                  <a:pt x="14911" y="17779"/>
                  <a:pt x="14883" y="17810"/>
                </a:cubicBezTo>
                <a:cubicBezTo>
                  <a:pt x="15009" y="17914"/>
                  <a:pt x="15153" y="17982"/>
                  <a:pt x="15280" y="18083"/>
                </a:cubicBezTo>
                <a:cubicBezTo>
                  <a:pt x="15280" y="18151"/>
                  <a:pt x="15208" y="18196"/>
                  <a:pt x="15131" y="18182"/>
                </a:cubicBezTo>
                <a:cubicBezTo>
                  <a:pt x="14940" y="18148"/>
                  <a:pt x="14954" y="18080"/>
                  <a:pt x="15056" y="17983"/>
                </a:cubicBezTo>
                <a:cubicBezTo>
                  <a:pt x="15126" y="17916"/>
                  <a:pt x="15255" y="17809"/>
                  <a:pt x="15280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6840" y="6018120"/>
            <a:ext cx="1322280" cy="527040"/>
          </a:xfrm>
          <a:custGeom>
            <a:avLst/>
            <a:gdLst/>
            <a:ahLst/>
            <a:rect l="l" t="t" r="r" b="b"/>
            <a:pathLst>
              <a:path w="3672" h="1465">
                <a:moveTo>
                  <a:pt x="16867" y="16867"/>
                </a:moveTo>
                <a:cubicBezTo>
                  <a:pt x="16820" y="16874"/>
                  <a:pt x="16531" y="16935"/>
                  <a:pt x="16545" y="17016"/>
                </a:cubicBezTo>
                <a:cubicBezTo>
                  <a:pt x="16567" y="17142"/>
                  <a:pt x="16782" y="17223"/>
                  <a:pt x="16842" y="17314"/>
                </a:cubicBezTo>
                <a:cubicBezTo>
                  <a:pt x="16749" y="17384"/>
                  <a:pt x="16723" y="17410"/>
                  <a:pt x="16644" y="17363"/>
                </a:cubicBezTo>
                <a:cubicBezTo>
                  <a:pt x="16573" y="17170"/>
                  <a:pt x="16743" y="17133"/>
                  <a:pt x="16842" y="16966"/>
                </a:cubicBezTo>
                <a:cubicBezTo>
                  <a:pt x="16856" y="16942"/>
                  <a:pt x="16773" y="16835"/>
                  <a:pt x="16867" y="17041"/>
                </a:cubicBezTo>
              </a:path>
              <a:path w="3672" h="1465">
                <a:moveTo>
                  <a:pt x="16520" y="17562"/>
                </a:moveTo>
                <a:cubicBezTo>
                  <a:pt x="16656" y="17562"/>
                  <a:pt x="16782" y="17523"/>
                  <a:pt x="16917" y="17512"/>
                </a:cubicBezTo>
                <a:cubicBezTo>
                  <a:pt x="17006" y="17505"/>
                  <a:pt x="17078" y="17499"/>
                  <a:pt x="17165" y="17487"/>
                </a:cubicBezTo>
              </a:path>
              <a:path w="3672" h="1465">
                <a:moveTo>
                  <a:pt x="16768" y="17760"/>
                </a:moveTo>
                <a:cubicBezTo>
                  <a:pt x="16887" y="17732"/>
                  <a:pt x="16992" y="17711"/>
                  <a:pt x="17115" y="17711"/>
                </a:cubicBezTo>
                <a:cubicBezTo>
                  <a:pt x="17115" y="17796"/>
                  <a:pt x="17084" y="17876"/>
                  <a:pt x="17066" y="17959"/>
                </a:cubicBezTo>
                <a:cubicBezTo>
                  <a:pt x="17047" y="18046"/>
                  <a:pt x="17041" y="18099"/>
                  <a:pt x="17041" y="18182"/>
                </a:cubicBezTo>
              </a:path>
              <a:path w="3672" h="1465">
                <a:moveTo>
                  <a:pt x="17512" y="17413"/>
                </a:moveTo>
                <a:cubicBezTo>
                  <a:pt x="17512" y="17385"/>
                  <a:pt x="17510" y="17374"/>
                  <a:pt x="17487" y="17363"/>
                </a:cubicBezTo>
                <a:cubicBezTo>
                  <a:pt x="17628" y="17363"/>
                  <a:pt x="17873" y="17324"/>
                  <a:pt x="17959" y="17388"/>
                </a:cubicBezTo>
              </a:path>
              <a:path w="3672" h="1465">
                <a:moveTo>
                  <a:pt x="18430" y="17388"/>
                </a:moveTo>
                <a:cubicBezTo>
                  <a:pt x="18518" y="17321"/>
                  <a:pt x="18772" y="17306"/>
                  <a:pt x="18876" y="17289"/>
                </a:cubicBezTo>
                <a:cubicBezTo>
                  <a:pt x="19051" y="17261"/>
                  <a:pt x="19055" y="17268"/>
                  <a:pt x="19199" y="17289"/>
                </a:cubicBezTo>
              </a:path>
              <a:path w="3672" h="1465">
                <a:moveTo>
                  <a:pt x="18479" y="16842"/>
                </a:moveTo>
                <a:cubicBezTo>
                  <a:pt x="18366" y="16877"/>
                  <a:pt x="18345" y="16863"/>
                  <a:pt x="18306" y="16966"/>
                </a:cubicBezTo>
                <a:cubicBezTo>
                  <a:pt x="18298" y="16991"/>
                  <a:pt x="18289" y="17016"/>
                  <a:pt x="18281" y="17041"/>
                </a:cubicBezTo>
                <a:cubicBezTo>
                  <a:pt x="18400" y="17029"/>
                  <a:pt x="18488" y="16998"/>
                  <a:pt x="18604" y="17016"/>
                </a:cubicBezTo>
                <a:cubicBezTo>
                  <a:pt x="18592" y="17161"/>
                  <a:pt x="18566" y="17204"/>
                  <a:pt x="18405" y="17239"/>
                </a:cubicBezTo>
                <a:cubicBezTo>
                  <a:pt x="18344" y="17239"/>
                  <a:pt x="18328" y="17248"/>
                  <a:pt x="18306" y="17214"/>
                </a:cubicBezTo>
              </a:path>
              <a:path w="3672" h="1465">
                <a:moveTo>
                  <a:pt x="18703" y="16718"/>
                </a:moveTo>
                <a:cubicBezTo>
                  <a:pt x="18703" y="16841"/>
                  <a:pt x="18695" y="16947"/>
                  <a:pt x="18703" y="17066"/>
                </a:cubicBezTo>
                <a:cubicBezTo>
                  <a:pt x="18711" y="17196"/>
                  <a:pt x="18798" y="17215"/>
                  <a:pt x="18926" y="17165"/>
                </a:cubicBezTo>
                <a:cubicBezTo>
                  <a:pt x="19036" y="17122"/>
                  <a:pt x="19035" y="17038"/>
                  <a:pt x="19050" y="16942"/>
                </a:cubicBezTo>
                <a:cubicBezTo>
                  <a:pt x="18950" y="16970"/>
                  <a:pt x="18936" y="17060"/>
                  <a:pt x="18901" y="17165"/>
                </a:cubicBezTo>
              </a:path>
              <a:path w="3672" h="1465">
                <a:moveTo>
                  <a:pt x="18628" y="17636"/>
                </a:moveTo>
                <a:cubicBezTo>
                  <a:pt x="18575" y="17613"/>
                  <a:pt x="18550" y="17590"/>
                  <a:pt x="18529" y="17636"/>
                </a:cubicBezTo>
                <a:cubicBezTo>
                  <a:pt x="18509" y="17680"/>
                  <a:pt x="18488" y="17714"/>
                  <a:pt x="18479" y="17760"/>
                </a:cubicBezTo>
                <a:cubicBezTo>
                  <a:pt x="18569" y="17760"/>
                  <a:pt x="18643" y="17725"/>
                  <a:pt x="18728" y="17760"/>
                </a:cubicBezTo>
                <a:cubicBezTo>
                  <a:pt x="18842" y="17808"/>
                  <a:pt x="18740" y="17974"/>
                  <a:pt x="18678" y="18008"/>
                </a:cubicBezTo>
                <a:cubicBezTo>
                  <a:pt x="18593" y="18055"/>
                  <a:pt x="18420" y="18125"/>
                  <a:pt x="18479" y="17983"/>
                </a:cubicBezTo>
              </a:path>
              <a:path w="3672" h="1465">
                <a:moveTo>
                  <a:pt x="18951" y="17587"/>
                </a:moveTo>
                <a:cubicBezTo>
                  <a:pt x="18951" y="17697"/>
                  <a:pt x="18929" y="17799"/>
                  <a:pt x="18926" y="17909"/>
                </a:cubicBezTo>
                <a:cubicBezTo>
                  <a:pt x="18926" y="17987"/>
                  <a:pt x="18911" y="18005"/>
                  <a:pt x="18951" y="18033"/>
                </a:cubicBezTo>
                <a:cubicBezTo>
                  <a:pt x="19123" y="18062"/>
                  <a:pt x="19145" y="18011"/>
                  <a:pt x="19224" y="17859"/>
                </a:cubicBezTo>
                <a:cubicBezTo>
                  <a:pt x="19232" y="17843"/>
                  <a:pt x="19240" y="17826"/>
                  <a:pt x="19248" y="17810"/>
                </a:cubicBezTo>
                <a:cubicBezTo>
                  <a:pt x="19179" y="17756"/>
                  <a:pt x="19112" y="17805"/>
                  <a:pt x="19075" y="17884"/>
                </a:cubicBezTo>
                <a:cubicBezTo>
                  <a:pt x="19035" y="17969"/>
                  <a:pt x="19012" y="18062"/>
                  <a:pt x="19100" y="18033"/>
                </a:cubicBezTo>
              </a:path>
              <a:path w="3672" h="1465">
                <a:moveTo>
                  <a:pt x="19521" y="17462"/>
                </a:moveTo>
                <a:cubicBezTo>
                  <a:pt x="19588" y="17456"/>
                  <a:pt x="19652" y="17438"/>
                  <a:pt x="19720" y="17438"/>
                </a:cubicBezTo>
              </a:path>
              <a:path w="3672" h="1465">
                <a:moveTo>
                  <a:pt x="20117" y="16991"/>
                </a:moveTo>
                <a:cubicBezTo>
                  <a:pt x="20117" y="16966"/>
                  <a:pt x="20117" y="16958"/>
                  <a:pt x="20117" y="16942"/>
                </a:cubicBezTo>
                <a:cubicBezTo>
                  <a:pt x="20154" y="17111"/>
                  <a:pt x="20186" y="17262"/>
                  <a:pt x="20191" y="17438"/>
                </a:cubicBezTo>
                <a:cubicBezTo>
                  <a:pt x="20191" y="17496"/>
                  <a:pt x="20191" y="17504"/>
                  <a:pt x="20191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eps: Keep Change 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Keep the first fraction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division sign to a multiplicatio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p the second f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if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56240" y="839880"/>
            <a:ext cx="1108080" cy="509400"/>
          </a:xfrm>
          <a:custGeom>
            <a:avLst/>
            <a:gdLst/>
            <a:ahLst/>
            <a:rect l="l" t="t" r="r" b="b"/>
            <a:pathLst>
              <a:path w="3077" h="1415">
                <a:moveTo>
                  <a:pt x="18331" y="2456"/>
                </a:moveTo>
                <a:cubicBezTo>
                  <a:pt x="18364" y="2444"/>
                  <a:pt x="18355" y="2391"/>
                  <a:pt x="18355" y="2431"/>
                </a:cubicBezTo>
                <a:cubicBezTo>
                  <a:pt x="18355" y="2556"/>
                  <a:pt x="18331" y="2677"/>
                  <a:pt x="18331" y="2803"/>
                </a:cubicBezTo>
                <a:cubicBezTo>
                  <a:pt x="18331" y="2811"/>
                  <a:pt x="18331" y="2820"/>
                  <a:pt x="18331" y="2828"/>
                </a:cubicBezTo>
              </a:path>
              <a:path w="3077" h="1415">
                <a:moveTo>
                  <a:pt x="17934" y="2952"/>
                </a:moveTo>
                <a:cubicBezTo>
                  <a:pt x="18176" y="2952"/>
                  <a:pt x="18412" y="2968"/>
                  <a:pt x="18653" y="2977"/>
                </a:cubicBezTo>
                <a:cubicBezTo>
                  <a:pt x="18749" y="2981"/>
                  <a:pt x="18915" y="2971"/>
                  <a:pt x="18976" y="3001"/>
                </a:cubicBezTo>
                <a:cubicBezTo>
                  <a:pt x="18984" y="3001"/>
                  <a:pt x="18992" y="3001"/>
                  <a:pt x="19000" y="3001"/>
                </a:cubicBezTo>
              </a:path>
              <a:path w="3077" h="1415">
                <a:moveTo>
                  <a:pt x="18430" y="3324"/>
                </a:moveTo>
                <a:cubicBezTo>
                  <a:pt x="18338" y="3293"/>
                  <a:pt x="18520" y="3235"/>
                  <a:pt x="18554" y="3225"/>
                </a:cubicBezTo>
                <a:cubicBezTo>
                  <a:pt x="18635" y="3202"/>
                  <a:pt x="18704" y="3332"/>
                  <a:pt x="18678" y="3398"/>
                </a:cubicBezTo>
                <a:cubicBezTo>
                  <a:pt x="18624" y="3531"/>
                  <a:pt x="18461" y="3572"/>
                  <a:pt x="18380" y="3671"/>
                </a:cubicBezTo>
                <a:cubicBezTo>
                  <a:pt x="18359" y="3696"/>
                  <a:pt x="18360" y="3701"/>
                  <a:pt x="18331" y="3746"/>
                </a:cubicBezTo>
                <a:cubicBezTo>
                  <a:pt x="18412" y="3713"/>
                  <a:pt x="18473" y="3656"/>
                  <a:pt x="18579" y="3671"/>
                </a:cubicBezTo>
                <a:cubicBezTo>
                  <a:pt x="18638" y="3680"/>
                  <a:pt x="18678" y="3717"/>
                  <a:pt x="18728" y="3721"/>
                </a:cubicBezTo>
                <a:cubicBezTo>
                  <a:pt x="18777" y="3721"/>
                  <a:pt x="18794" y="3721"/>
                  <a:pt x="18827" y="3721"/>
                </a:cubicBezTo>
              </a:path>
              <a:path w="3077" h="1415">
                <a:moveTo>
                  <a:pt x="20414" y="2406"/>
                </a:moveTo>
                <a:cubicBezTo>
                  <a:pt x="20345" y="2406"/>
                  <a:pt x="20572" y="2332"/>
                  <a:pt x="20588" y="2332"/>
                </a:cubicBezTo>
                <a:cubicBezTo>
                  <a:pt x="20708" y="2332"/>
                  <a:pt x="20722" y="2477"/>
                  <a:pt x="20662" y="2555"/>
                </a:cubicBezTo>
                <a:cubicBezTo>
                  <a:pt x="20616" y="2615"/>
                  <a:pt x="20482" y="2649"/>
                  <a:pt x="20464" y="2704"/>
                </a:cubicBezTo>
                <a:cubicBezTo>
                  <a:pt x="20427" y="2704"/>
                  <a:pt x="20477" y="2733"/>
                  <a:pt x="20513" y="2729"/>
                </a:cubicBezTo>
                <a:cubicBezTo>
                  <a:pt x="20613" y="2718"/>
                  <a:pt x="20708" y="2660"/>
                  <a:pt x="20811" y="2654"/>
                </a:cubicBezTo>
                <a:cubicBezTo>
                  <a:pt x="20828" y="2654"/>
                  <a:pt x="20844" y="2654"/>
                  <a:pt x="20861" y="2654"/>
                </a:cubicBezTo>
              </a:path>
              <a:path w="3077" h="1415">
                <a:moveTo>
                  <a:pt x="20389" y="2828"/>
                </a:moveTo>
                <a:cubicBezTo>
                  <a:pt x="20560" y="2797"/>
                  <a:pt x="20731" y="2746"/>
                  <a:pt x="20910" y="2729"/>
                </a:cubicBezTo>
                <a:cubicBezTo>
                  <a:pt x="20968" y="2729"/>
                  <a:pt x="20977" y="2729"/>
                  <a:pt x="21010" y="2729"/>
                </a:cubicBezTo>
              </a:path>
              <a:path w="3077" h="1415">
                <a:moveTo>
                  <a:pt x="20414" y="3101"/>
                </a:moveTo>
                <a:cubicBezTo>
                  <a:pt x="20503" y="3065"/>
                  <a:pt x="20605" y="3047"/>
                  <a:pt x="20687" y="3026"/>
                </a:cubicBezTo>
                <a:cubicBezTo>
                  <a:pt x="20740" y="3013"/>
                  <a:pt x="20774" y="3050"/>
                  <a:pt x="20786" y="3101"/>
                </a:cubicBezTo>
                <a:cubicBezTo>
                  <a:pt x="20804" y="3181"/>
                  <a:pt x="20700" y="3227"/>
                  <a:pt x="20638" y="3249"/>
                </a:cubicBezTo>
                <a:cubicBezTo>
                  <a:pt x="20630" y="3249"/>
                  <a:pt x="20621" y="3249"/>
                  <a:pt x="20613" y="3249"/>
                </a:cubicBezTo>
                <a:cubicBezTo>
                  <a:pt x="20684" y="3249"/>
                  <a:pt x="20804" y="3225"/>
                  <a:pt x="20861" y="3274"/>
                </a:cubicBezTo>
                <a:cubicBezTo>
                  <a:pt x="21006" y="3399"/>
                  <a:pt x="20696" y="3545"/>
                  <a:pt x="20613" y="3547"/>
                </a:cubicBezTo>
                <a:cubicBezTo>
                  <a:pt x="20572" y="3539"/>
                  <a:pt x="20530" y="3530"/>
                  <a:pt x="20489" y="3522"/>
                </a:cubicBezTo>
              </a:path>
              <a:path w="3077" h="1415">
                <a:moveTo>
                  <a:pt x="19298" y="2977"/>
                </a:moveTo>
                <a:cubicBezTo>
                  <a:pt x="19417" y="2977"/>
                  <a:pt x="19528" y="2994"/>
                  <a:pt x="19645" y="3001"/>
                </a:cubicBezTo>
                <a:cubicBezTo>
                  <a:pt x="19739" y="3007"/>
                  <a:pt x="19851" y="3093"/>
                  <a:pt x="19918" y="3026"/>
                </a:cubicBezTo>
                <a:cubicBezTo>
                  <a:pt x="19918" y="3018"/>
                  <a:pt x="19918" y="3009"/>
                  <a:pt x="19918" y="30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92840" y="1847880"/>
            <a:ext cx="15228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16371" y="5209"/>
                </a:moveTo>
                <a:cubicBezTo>
                  <a:pt x="16484" y="5193"/>
                  <a:pt x="16607" y="5179"/>
                  <a:pt x="16718" y="5159"/>
                </a:cubicBezTo>
                <a:cubicBezTo>
                  <a:pt x="16743" y="5151"/>
                  <a:pt x="16768" y="5143"/>
                  <a:pt x="16793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1840" y="2527200"/>
            <a:ext cx="3189240" cy="642960"/>
          </a:xfrm>
          <a:custGeom>
            <a:avLst/>
            <a:gdLst/>
            <a:ahLst/>
            <a:rect l="l" t="t" r="r" b="b"/>
            <a:pathLst>
              <a:path w="8857" h="1787">
                <a:moveTo>
                  <a:pt x="3894" y="7392"/>
                </a:moveTo>
                <a:cubicBezTo>
                  <a:pt x="4156" y="7331"/>
                  <a:pt x="4492" y="7357"/>
                  <a:pt x="4762" y="7367"/>
                </a:cubicBezTo>
                <a:cubicBezTo>
                  <a:pt x="5182" y="7382"/>
                  <a:pt x="5585" y="7426"/>
                  <a:pt x="6003" y="7392"/>
                </a:cubicBezTo>
                <a:cubicBezTo>
                  <a:pt x="6011" y="7392"/>
                  <a:pt x="6020" y="7392"/>
                  <a:pt x="6028" y="7392"/>
                </a:cubicBezTo>
              </a:path>
              <a:path w="8857" h="1787">
                <a:moveTo>
                  <a:pt x="7838" y="7293"/>
                </a:moveTo>
                <a:cubicBezTo>
                  <a:pt x="7954" y="7272"/>
                  <a:pt x="8020" y="7258"/>
                  <a:pt x="8136" y="7243"/>
                </a:cubicBezTo>
                <a:cubicBezTo>
                  <a:pt x="8481" y="7199"/>
                  <a:pt x="8835" y="7208"/>
                  <a:pt x="9178" y="7218"/>
                </a:cubicBezTo>
                <a:cubicBezTo>
                  <a:pt x="9409" y="7225"/>
                  <a:pt x="9639" y="7193"/>
                  <a:pt x="9872" y="7193"/>
                </a:cubicBezTo>
                <a:cubicBezTo>
                  <a:pt x="10089" y="7193"/>
                  <a:pt x="10301" y="7173"/>
                  <a:pt x="10517" y="7169"/>
                </a:cubicBezTo>
                <a:cubicBezTo>
                  <a:pt x="10677" y="7166"/>
                  <a:pt x="10828" y="7144"/>
                  <a:pt x="10988" y="7144"/>
                </a:cubicBezTo>
                <a:cubicBezTo>
                  <a:pt x="11182" y="7144"/>
                  <a:pt x="11367" y="7144"/>
                  <a:pt x="11559" y="7119"/>
                </a:cubicBezTo>
                <a:cubicBezTo>
                  <a:pt x="11790" y="7089"/>
                  <a:pt x="12023" y="7094"/>
                  <a:pt x="12254" y="7069"/>
                </a:cubicBezTo>
                <a:cubicBezTo>
                  <a:pt x="12402" y="7053"/>
                  <a:pt x="12558" y="7036"/>
                  <a:pt x="12700" y="7020"/>
                </a:cubicBezTo>
                <a:cubicBezTo>
                  <a:pt x="12725" y="7020"/>
                  <a:pt x="12733" y="7020"/>
                  <a:pt x="12750" y="7020"/>
                </a:cubicBezTo>
              </a:path>
              <a:path w="8857" h="1787">
                <a:moveTo>
                  <a:pt x="4638" y="8806"/>
                </a:moveTo>
                <a:cubicBezTo>
                  <a:pt x="4772" y="8799"/>
                  <a:pt x="4902" y="8765"/>
                  <a:pt x="5035" y="8756"/>
                </a:cubicBezTo>
                <a:cubicBezTo>
                  <a:pt x="5256" y="8741"/>
                  <a:pt x="5462" y="8744"/>
                  <a:pt x="5680" y="8756"/>
                </a:cubicBezTo>
                <a:cubicBezTo>
                  <a:pt x="5894" y="8767"/>
                  <a:pt x="6110" y="8731"/>
                  <a:pt x="6325" y="8731"/>
                </a:cubicBezTo>
                <a:cubicBezTo>
                  <a:pt x="6530" y="8731"/>
                  <a:pt x="6743" y="8715"/>
                  <a:pt x="6945" y="8682"/>
                </a:cubicBezTo>
                <a:cubicBezTo>
                  <a:pt x="7095" y="8658"/>
                  <a:pt x="7246" y="8619"/>
                  <a:pt x="7392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8120" y="1473120"/>
            <a:ext cx="2063880" cy="812880"/>
          </a:xfrm>
          <a:custGeom>
            <a:avLst/>
            <a:gdLst/>
            <a:ahLst/>
            <a:rect l="l" t="t" r="r" b="b"/>
            <a:pathLst>
              <a:path w="5731" h="2258">
                <a:moveTo>
                  <a:pt x="16718" y="4390"/>
                </a:moveTo>
                <a:cubicBezTo>
                  <a:pt x="16997" y="4584"/>
                  <a:pt x="17231" y="4815"/>
                  <a:pt x="17264" y="5184"/>
                </a:cubicBezTo>
                <a:cubicBezTo>
                  <a:pt x="17284" y="5412"/>
                  <a:pt x="17120" y="5522"/>
                  <a:pt x="17041" y="5680"/>
                </a:cubicBezTo>
                <a:cubicBezTo>
                  <a:pt x="17049" y="5680"/>
                  <a:pt x="17058" y="5680"/>
                  <a:pt x="17066" y="5680"/>
                </a:cubicBezTo>
              </a:path>
              <a:path w="5731" h="2258">
                <a:moveTo>
                  <a:pt x="18405" y="4762"/>
                </a:moveTo>
                <a:cubicBezTo>
                  <a:pt x="18468" y="4825"/>
                  <a:pt x="18441" y="5028"/>
                  <a:pt x="18455" y="5135"/>
                </a:cubicBezTo>
                <a:cubicBezTo>
                  <a:pt x="18473" y="5209"/>
                  <a:pt x="18481" y="5216"/>
                  <a:pt x="18479" y="5259"/>
                </a:cubicBezTo>
              </a:path>
              <a:path w="5731" h="2258">
                <a:moveTo>
                  <a:pt x="18182" y="5432"/>
                </a:moveTo>
                <a:cubicBezTo>
                  <a:pt x="18324" y="5432"/>
                  <a:pt x="18462" y="5411"/>
                  <a:pt x="18604" y="5407"/>
                </a:cubicBezTo>
                <a:cubicBezTo>
                  <a:pt x="18672" y="5405"/>
                  <a:pt x="18689" y="5389"/>
                  <a:pt x="18703" y="5432"/>
                </a:cubicBezTo>
              </a:path>
              <a:path w="5731" h="2258">
                <a:moveTo>
                  <a:pt x="18380" y="5705"/>
                </a:moveTo>
                <a:cubicBezTo>
                  <a:pt x="18389" y="5662"/>
                  <a:pt x="18439" y="5542"/>
                  <a:pt x="18504" y="5556"/>
                </a:cubicBezTo>
                <a:cubicBezTo>
                  <a:pt x="18606" y="5578"/>
                  <a:pt x="18596" y="5688"/>
                  <a:pt x="18554" y="5755"/>
                </a:cubicBezTo>
                <a:cubicBezTo>
                  <a:pt x="18519" y="5812"/>
                  <a:pt x="18473" y="5877"/>
                  <a:pt x="18430" y="5928"/>
                </a:cubicBezTo>
                <a:cubicBezTo>
                  <a:pt x="18369" y="6001"/>
                  <a:pt x="18313" y="6047"/>
                  <a:pt x="18256" y="6127"/>
                </a:cubicBezTo>
                <a:cubicBezTo>
                  <a:pt x="18228" y="6155"/>
                  <a:pt x="18219" y="6168"/>
                  <a:pt x="18231" y="6201"/>
                </a:cubicBezTo>
                <a:cubicBezTo>
                  <a:pt x="18239" y="6189"/>
                  <a:pt x="18340" y="6058"/>
                  <a:pt x="18355" y="6052"/>
                </a:cubicBezTo>
                <a:cubicBezTo>
                  <a:pt x="18455" y="6016"/>
                  <a:pt x="18470" y="6146"/>
                  <a:pt x="18579" y="6127"/>
                </a:cubicBezTo>
                <a:cubicBezTo>
                  <a:pt x="18635" y="6089"/>
                  <a:pt x="18660" y="6094"/>
                  <a:pt x="18653" y="6052"/>
                </a:cubicBezTo>
              </a:path>
              <a:path w="5731" h="2258">
                <a:moveTo>
                  <a:pt x="19050" y="5159"/>
                </a:moveTo>
                <a:cubicBezTo>
                  <a:pt x="19097" y="5273"/>
                  <a:pt x="19165" y="5373"/>
                  <a:pt x="19224" y="5482"/>
                </a:cubicBezTo>
                <a:cubicBezTo>
                  <a:pt x="19267" y="5561"/>
                  <a:pt x="19269" y="5577"/>
                  <a:pt x="19323" y="5631"/>
                </a:cubicBezTo>
              </a:path>
              <a:path w="5731" h="2258">
                <a:moveTo>
                  <a:pt x="19323" y="5159"/>
                </a:moveTo>
                <a:cubicBezTo>
                  <a:pt x="19308" y="5160"/>
                  <a:pt x="19212" y="5290"/>
                  <a:pt x="19174" y="5358"/>
                </a:cubicBezTo>
                <a:cubicBezTo>
                  <a:pt x="19117" y="5459"/>
                  <a:pt x="19037" y="5569"/>
                  <a:pt x="19000" y="5680"/>
                </a:cubicBezTo>
                <a:cubicBezTo>
                  <a:pt x="19000" y="5705"/>
                  <a:pt x="19000" y="5713"/>
                  <a:pt x="19000" y="5730"/>
                </a:cubicBezTo>
              </a:path>
              <a:path w="5731" h="2258">
                <a:moveTo>
                  <a:pt x="19571" y="4911"/>
                </a:moveTo>
                <a:cubicBezTo>
                  <a:pt x="19595" y="4891"/>
                  <a:pt x="19823" y="4691"/>
                  <a:pt x="19869" y="4762"/>
                </a:cubicBezTo>
                <a:cubicBezTo>
                  <a:pt x="19932" y="4860"/>
                  <a:pt x="19812" y="4968"/>
                  <a:pt x="19745" y="5011"/>
                </a:cubicBezTo>
                <a:cubicBezTo>
                  <a:pt x="19833" y="5011"/>
                  <a:pt x="19933" y="5003"/>
                  <a:pt x="19918" y="5135"/>
                </a:cubicBezTo>
                <a:cubicBezTo>
                  <a:pt x="19901" y="5280"/>
                  <a:pt x="19773" y="5259"/>
                  <a:pt x="19670" y="5259"/>
                </a:cubicBezTo>
                <a:cubicBezTo>
                  <a:pt x="19622" y="5259"/>
                  <a:pt x="19705" y="5285"/>
                  <a:pt x="19745" y="5308"/>
                </a:cubicBezTo>
              </a:path>
              <a:path w="5731" h="2258">
                <a:moveTo>
                  <a:pt x="19496" y="5507"/>
                </a:moveTo>
                <a:cubicBezTo>
                  <a:pt x="19680" y="5500"/>
                  <a:pt x="19859" y="5468"/>
                  <a:pt x="20042" y="5457"/>
                </a:cubicBezTo>
                <a:cubicBezTo>
                  <a:pt x="20067" y="5457"/>
                  <a:pt x="20075" y="5457"/>
                  <a:pt x="20067" y="5482"/>
                </a:cubicBezTo>
              </a:path>
              <a:path w="5731" h="2258">
                <a:moveTo>
                  <a:pt x="19596" y="5854"/>
                </a:moveTo>
                <a:cubicBezTo>
                  <a:pt x="19608" y="5767"/>
                  <a:pt x="19619" y="5757"/>
                  <a:pt x="19670" y="5705"/>
                </a:cubicBezTo>
                <a:cubicBezTo>
                  <a:pt x="19796" y="5730"/>
                  <a:pt x="19847" y="5832"/>
                  <a:pt x="19794" y="5978"/>
                </a:cubicBezTo>
                <a:cubicBezTo>
                  <a:pt x="19740" y="6127"/>
                  <a:pt x="19613" y="6197"/>
                  <a:pt x="19472" y="6226"/>
                </a:cubicBezTo>
                <a:cubicBezTo>
                  <a:pt x="19472" y="6146"/>
                  <a:pt x="19467" y="6077"/>
                  <a:pt x="19571" y="6052"/>
                </a:cubicBezTo>
                <a:cubicBezTo>
                  <a:pt x="19703" y="6021"/>
                  <a:pt x="19766" y="6138"/>
                  <a:pt x="19869" y="6176"/>
                </a:cubicBezTo>
                <a:cubicBezTo>
                  <a:pt x="19944" y="6203"/>
                  <a:pt x="20018" y="6151"/>
                  <a:pt x="20067" y="6102"/>
                </a:cubicBezTo>
              </a:path>
              <a:path w="5731" h="2258">
                <a:moveTo>
                  <a:pt x="20439" y="5184"/>
                </a:moveTo>
                <a:cubicBezTo>
                  <a:pt x="20550" y="5184"/>
                  <a:pt x="20696" y="5154"/>
                  <a:pt x="20786" y="5209"/>
                </a:cubicBezTo>
              </a:path>
              <a:path w="5731" h="2258">
                <a:moveTo>
                  <a:pt x="20489" y="5383"/>
                </a:moveTo>
                <a:cubicBezTo>
                  <a:pt x="20596" y="5383"/>
                  <a:pt x="20704" y="5383"/>
                  <a:pt x="20811" y="5383"/>
                </a:cubicBezTo>
              </a:path>
              <a:path w="5731" h="2258">
                <a:moveTo>
                  <a:pt x="21258" y="4564"/>
                </a:moveTo>
                <a:cubicBezTo>
                  <a:pt x="21280" y="4471"/>
                  <a:pt x="21376" y="4477"/>
                  <a:pt x="21456" y="4465"/>
                </a:cubicBezTo>
                <a:cubicBezTo>
                  <a:pt x="21485" y="4571"/>
                  <a:pt x="21496" y="4716"/>
                  <a:pt x="21382" y="4787"/>
                </a:cubicBezTo>
                <a:cubicBezTo>
                  <a:pt x="21365" y="4787"/>
                  <a:pt x="21349" y="4787"/>
                  <a:pt x="21332" y="4787"/>
                </a:cubicBezTo>
                <a:cubicBezTo>
                  <a:pt x="21415" y="4773"/>
                  <a:pt x="21538" y="4744"/>
                  <a:pt x="21506" y="4887"/>
                </a:cubicBezTo>
                <a:cubicBezTo>
                  <a:pt x="21471" y="5040"/>
                  <a:pt x="21353" y="5021"/>
                  <a:pt x="21233" y="5035"/>
                </a:cubicBezTo>
              </a:path>
              <a:path w="5731" h="2258">
                <a:moveTo>
                  <a:pt x="21134" y="5259"/>
                </a:moveTo>
                <a:cubicBezTo>
                  <a:pt x="21320" y="5218"/>
                  <a:pt x="21488" y="5184"/>
                  <a:pt x="21679" y="5184"/>
                </a:cubicBezTo>
              </a:path>
              <a:path w="5731" h="2258">
                <a:moveTo>
                  <a:pt x="21258" y="5507"/>
                </a:moveTo>
                <a:cubicBezTo>
                  <a:pt x="21249" y="5558"/>
                  <a:pt x="21233" y="5603"/>
                  <a:pt x="21233" y="5655"/>
                </a:cubicBezTo>
                <a:cubicBezTo>
                  <a:pt x="21359" y="5640"/>
                  <a:pt x="21478" y="5614"/>
                  <a:pt x="21605" y="5606"/>
                </a:cubicBezTo>
              </a:path>
              <a:path w="5731" h="2258">
                <a:moveTo>
                  <a:pt x="21530" y="5383"/>
                </a:moveTo>
                <a:cubicBezTo>
                  <a:pt x="21512" y="5551"/>
                  <a:pt x="21433" y="5710"/>
                  <a:pt x="21406" y="5879"/>
                </a:cubicBezTo>
                <a:cubicBezTo>
                  <a:pt x="21396" y="5941"/>
                  <a:pt x="21376" y="6070"/>
                  <a:pt x="21431" y="5978"/>
                </a:cubicBezTo>
              </a:path>
              <a:path w="5731" h="2258">
                <a:moveTo>
                  <a:pt x="20811" y="6226"/>
                </a:moveTo>
                <a:cubicBezTo>
                  <a:pt x="21097" y="6330"/>
                  <a:pt x="21355" y="6398"/>
                  <a:pt x="21654" y="6300"/>
                </a:cubicBezTo>
                <a:cubicBezTo>
                  <a:pt x="21915" y="6215"/>
                  <a:pt x="22122" y="6021"/>
                  <a:pt x="22250" y="5779"/>
                </a:cubicBezTo>
                <a:cubicBezTo>
                  <a:pt x="22358" y="5575"/>
                  <a:pt x="22453" y="5294"/>
                  <a:pt x="22448" y="5060"/>
                </a:cubicBezTo>
                <a:cubicBezTo>
                  <a:pt x="22445" y="4906"/>
                  <a:pt x="22380" y="4719"/>
                  <a:pt x="22299" y="4589"/>
                </a:cubicBezTo>
                <a:cubicBezTo>
                  <a:pt x="22217" y="4456"/>
                  <a:pt x="22110" y="4326"/>
                  <a:pt x="21977" y="4242"/>
                </a:cubicBezTo>
                <a:cubicBezTo>
                  <a:pt x="21877" y="4179"/>
                  <a:pt x="21750" y="4106"/>
                  <a:pt x="21630" y="4093"/>
                </a:cubicBezTo>
                <a:cubicBezTo>
                  <a:pt x="21486" y="4078"/>
                  <a:pt x="21319" y="4089"/>
                  <a:pt x="21183" y="4142"/>
                </a:cubicBezTo>
                <a:cubicBezTo>
                  <a:pt x="21072" y="4185"/>
                  <a:pt x="20954" y="4240"/>
                  <a:pt x="20861" y="4316"/>
                </a:cubicBezTo>
                <a:cubicBezTo>
                  <a:pt x="20738" y="4417"/>
                  <a:pt x="20698" y="4525"/>
                  <a:pt x="20638" y="4663"/>
                </a:cubicBezTo>
                <a:cubicBezTo>
                  <a:pt x="20593" y="4768"/>
                  <a:pt x="20546" y="4916"/>
                  <a:pt x="20563" y="5035"/>
                </a:cubicBezTo>
                <a:cubicBezTo>
                  <a:pt x="20579" y="5144"/>
                  <a:pt x="20622" y="5249"/>
                  <a:pt x="20638" y="5358"/>
                </a:cubicBezTo>
                <a:cubicBezTo>
                  <a:pt x="20654" y="5462"/>
                  <a:pt x="20658" y="5550"/>
                  <a:pt x="20687" y="5655"/>
                </a:cubicBezTo>
                <a:cubicBezTo>
                  <a:pt x="20719" y="5772"/>
                  <a:pt x="20705" y="5892"/>
                  <a:pt x="20762" y="6003"/>
                </a:cubicBezTo>
                <a:cubicBezTo>
                  <a:pt x="20795" y="6066"/>
                  <a:pt x="20825" y="6158"/>
                  <a:pt x="20886" y="6201"/>
                </a:cubicBezTo>
                <a:cubicBezTo>
                  <a:pt x="20915" y="6222"/>
                  <a:pt x="21106" y="6251"/>
                  <a:pt x="21134" y="6276"/>
                </a:cubicBezTo>
                <a:cubicBezTo>
                  <a:pt x="21134" y="6292"/>
                  <a:pt x="21134" y="6309"/>
                  <a:pt x="21134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973080"/>
            <a:ext cx="2162160" cy="2571840"/>
          </a:xfrm>
          <a:custGeom>
            <a:avLst/>
            <a:gdLst/>
            <a:ahLst/>
            <a:rect l="l" t="t" r="r" b="b"/>
            <a:pathLst>
              <a:path w="6004" h="7144">
                <a:moveTo>
                  <a:pt x="19621" y="2704"/>
                </a:moveTo>
                <a:cubicBezTo>
                  <a:pt x="19621" y="2729"/>
                  <a:pt x="19621" y="2753"/>
                  <a:pt x="19621" y="2778"/>
                </a:cubicBezTo>
              </a:path>
              <a:path w="6004" h="7144">
                <a:moveTo>
                  <a:pt x="19621" y="3274"/>
                </a:moveTo>
                <a:cubicBezTo>
                  <a:pt x="19596" y="3274"/>
                  <a:pt x="19588" y="3274"/>
                  <a:pt x="19596" y="3299"/>
                </a:cubicBezTo>
              </a:path>
              <a:path w="6004" h="7144">
                <a:moveTo>
                  <a:pt x="13618" y="9847"/>
                </a:moveTo>
                <a:lnTo>
                  <a:pt x="13618" y="984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054160"/>
            <a:ext cx="3143160" cy="973080"/>
          </a:xfrm>
          <a:custGeom>
            <a:avLst/>
            <a:gdLst/>
            <a:ahLst/>
            <a:rect l="l" t="t" r="r" b="b"/>
            <a:pathLst>
              <a:path w="8732" h="2705">
                <a:moveTo>
                  <a:pt x="5755" y="5904"/>
                </a:moveTo>
                <a:cubicBezTo>
                  <a:pt x="5779" y="5888"/>
                  <a:pt x="5747" y="5846"/>
                  <a:pt x="5804" y="5829"/>
                </a:cubicBezTo>
                <a:cubicBezTo>
                  <a:pt x="6024" y="5764"/>
                  <a:pt x="6409" y="5796"/>
                  <a:pt x="6623" y="5779"/>
                </a:cubicBezTo>
                <a:cubicBezTo>
                  <a:pt x="6703" y="5773"/>
                  <a:pt x="6773" y="5761"/>
                  <a:pt x="6846" y="5755"/>
                </a:cubicBezTo>
                <a:cubicBezTo>
                  <a:pt x="6953" y="5746"/>
                  <a:pt x="7064" y="5736"/>
                  <a:pt x="7169" y="5730"/>
                </a:cubicBezTo>
                <a:cubicBezTo>
                  <a:pt x="7268" y="5724"/>
                  <a:pt x="7369" y="5701"/>
                  <a:pt x="7466" y="5705"/>
                </a:cubicBezTo>
                <a:cubicBezTo>
                  <a:pt x="7584" y="5709"/>
                  <a:pt x="7692" y="5727"/>
                  <a:pt x="7813" y="5730"/>
                </a:cubicBezTo>
                <a:cubicBezTo>
                  <a:pt x="8031" y="5735"/>
                  <a:pt x="8243" y="5751"/>
                  <a:pt x="8458" y="5755"/>
                </a:cubicBezTo>
                <a:cubicBezTo>
                  <a:pt x="8561" y="5757"/>
                  <a:pt x="8658" y="5735"/>
                  <a:pt x="8756" y="5730"/>
                </a:cubicBezTo>
                <a:cubicBezTo>
                  <a:pt x="8937" y="5721"/>
                  <a:pt x="9124" y="5714"/>
                  <a:pt x="9302" y="5705"/>
                </a:cubicBezTo>
                <a:cubicBezTo>
                  <a:pt x="9480" y="5696"/>
                  <a:pt x="9648" y="5723"/>
                  <a:pt x="9823" y="5730"/>
                </a:cubicBezTo>
                <a:cubicBezTo>
                  <a:pt x="9958" y="5736"/>
                  <a:pt x="10087" y="5739"/>
                  <a:pt x="10220" y="5755"/>
                </a:cubicBezTo>
                <a:cubicBezTo>
                  <a:pt x="10329" y="5768"/>
                  <a:pt x="10431" y="5777"/>
                  <a:pt x="10542" y="5779"/>
                </a:cubicBezTo>
                <a:cubicBezTo>
                  <a:pt x="10646" y="5781"/>
                  <a:pt x="10738" y="5798"/>
                  <a:pt x="10840" y="5804"/>
                </a:cubicBezTo>
                <a:cubicBezTo>
                  <a:pt x="11008" y="5814"/>
                  <a:pt x="11196" y="5833"/>
                  <a:pt x="11361" y="5829"/>
                </a:cubicBezTo>
                <a:cubicBezTo>
                  <a:pt x="11512" y="5825"/>
                  <a:pt x="11659" y="5789"/>
                  <a:pt x="11807" y="5779"/>
                </a:cubicBezTo>
                <a:cubicBezTo>
                  <a:pt x="12094" y="5760"/>
                  <a:pt x="12389" y="5760"/>
                  <a:pt x="12675" y="5755"/>
                </a:cubicBezTo>
                <a:cubicBezTo>
                  <a:pt x="12849" y="5752"/>
                  <a:pt x="13122" y="5789"/>
                  <a:pt x="13246" y="5779"/>
                </a:cubicBezTo>
                <a:cubicBezTo>
                  <a:pt x="13246" y="5771"/>
                  <a:pt x="13246" y="5763"/>
                  <a:pt x="13246" y="5755"/>
                </a:cubicBezTo>
              </a:path>
              <a:path w="8732" h="2705">
                <a:moveTo>
                  <a:pt x="12700" y="8409"/>
                </a:moveTo>
                <a:cubicBezTo>
                  <a:pt x="12791" y="8409"/>
                  <a:pt x="12832" y="8409"/>
                  <a:pt x="12923" y="8409"/>
                </a:cubicBezTo>
                <a:cubicBezTo>
                  <a:pt x="13093" y="8409"/>
                  <a:pt x="13252" y="8399"/>
                  <a:pt x="13419" y="8384"/>
                </a:cubicBezTo>
                <a:cubicBezTo>
                  <a:pt x="13708" y="8358"/>
                  <a:pt x="14002" y="8390"/>
                  <a:pt x="14288" y="8359"/>
                </a:cubicBezTo>
                <a:cubicBezTo>
                  <a:pt x="14355" y="8352"/>
                  <a:pt x="14398" y="8379"/>
                  <a:pt x="14461" y="8384"/>
                </a:cubicBezTo>
                <a:cubicBezTo>
                  <a:pt x="14469" y="8384"/>
                  <a:pt x="14478" y="8384"/>
                  <a:pt x="14486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41960" y="1608120"/>
            <a:ext cx="812880" cy="436680"/>
          </a:xfrm>
          <a:custGeom>
            <a:avLst/>
            <a:gdLst/>
            <a:ahLst/>
            <a:rect l="l" t="t" r="r" b="b"/>
            <a:pathLst>
              <a:path w="2259" h="1216">
                <a:moveTo>
                  <a:pt x="14784" y="4465"/>
                </a:moveTo>
                <a:cubicBezTo>
                  <a:pt x="14784" y="4632"/>
                  <a:pt x="14655" y="4803"/>
                  <a:pt x="14610" y="4961"/>
                </a:cubicBezTo>
                <a:cubicBezTo>
                  <a:pt x="14526" y="5261"/>
                  <a:pt x="14557" y="5432"/>
                  <a:pt x="14759" y="5655"/>
                </a:cubicBezTo>
                <a:cubicBezTo>
                  <a:pt x="14781" y="5677"/>
                  <a:pt x="14786" y="5686"/>
                  <a:pt x="14808" y="5680"/>
                </a:cubicBezTo>
              </a:path>
              <a:path w="2259" h="1216">
                <a:moveTo>
                  <a:pt x="15007" y="4787"/>
                </a:moveTo>
                <a:cubicBezTo>
                  <a:pt x="15031" y="4977"/>
                  <a:pt x="15106" y="5165"/>
                  <a:pt x="15106" y="5358"/>
                </a:cubicBezTo>
                <a:cubicBezTo>
                  <a:pt x="15106" y="5424"/>
                  <a:pt x="15081" y="5573"/>
                  <a:pt x="15081" y="5507"/>
                </a:cubicBezTo>
              </a:path>
              <a:path w="2259" h="1216">
                <a:moveTo>
                  <a:pt x="15379" y="4762"/>
                </a:moveTo>
                <a:cubicBezTo>
                  <a:pt x="15318" y="4925"/>
                  <a:pt x="15272" y="5121"/>
                  <a:pt x="15106" y="5209"/>
                </a:cubicBezTo>
                <a:cubicBezTo>
                  <a:pt x="15098" y="5209"/>
                  <a:pt x="15089" y="5209"/>
                  <a:pt x="15081" y="5209"/>
                </a:cubicBezTo>
                <a:cubicBezTo>
                  <a:pt x="15224" y="5180"/>
                  <a:pt x="15266" y="5154"/>
                  <a:pt x="15379" y="5283"/>
                </a:cubicBezTo>
                <a:cubicBezTo>
                  <a:pt x="15473" y="5390"/>
                  <a:pt x="15490" y="5454"/>
                  <a:pt x="15503" y="5581"/>
                </a:cubicBezTo>
              </a:path>
              <a:path w="2259" h="1216">
                <a:moveTo>
                  <a:pt x="15999" y="4887"/>
                </a:moveTo>
                <a:cubicBezTo>
                  <a:pt x="15999" y="4924"/>
                  <a:pt x="15918" y="4769"/>
                  <a:pt x="15850" y="4738"/>
                </a:cubicBezTo>
                <a:cubicBezTo>
                  <a:pt x="15834" y="4738"/>
                  <a:pt x="15817" y="4738"/>
                  <a:pt x="15801" y="4738"/>
                </a:cubicBezTo>
                <a:cubicBezTo>
                  <a:pt x="15690" y="4909"/>
                  <a:pt x="15578" y="5153"/>
                  <a:pt x="15701" y="5358"/>
                </a:cubicBezTo>
                <a:cubicBezTo>
                  <a:pt x="15777" y="5485"/>
                  <a:pt x="16036" y="5454"/>
                  <a:pt x="16123" y="5358"/>
                </a:cubicBezTo>
                <a:cubicBezTo>
                  <a:pt x="16148" y="5317"/>
                  <a:pt x="16172" y="5275"/>
                  <a:pt x="16197" y="5234"/>
                </a:cubicBezTo>
              </a:path>
              <a:path w="2259" h="1216">
                <a:moveTo>
                  <a:pt x="16297" y="4911"/>
                </a:moveTo>
                <a:cubicBezTo>
                  <a:pt x="16337" y="5066"/>
                  <a:pt x="16355" y="5322"/>
                  <a:pt x="16446" y="5457"/>
                </a:cubicBezTo>
                <a:cubicBezTo>
                  <a:pt x="16446" y="5449"/>
                  <a:pt x="16446" y="5440"/>
                  <a:pt x="16446" y="5432"/>
                </a:cubicBezTo>
                <a:cubicBezTo>
                  <a:pt x="16400" y="5251"/>
                  <a:pt x="16339" y="5071"/>
                  <a:pt x="16321" y="4887"/>
                </a:cubicBezTo>
                <a:cubicBezTo>
                  <a:pt x="16321" y="4879"/>
                  <a:pt x="16321" y="4870"/>
                  <a:pt x="16321" y="4862"/>
                </a:cubicBezTo>
                <a:cubicBezTo>
                  <a:pt x="16439" y="4842"/>
                  <a:pt x="16547" y="4837"/>
                  <a:pt x="16669" y="4837"/>
                </a:cubicBezTo>
                <a:cubicBezTo>
                  <a:pt x="16719" y="4837"/>
                  <a:pt x="16768" y="4837"/>
                  <a:pt x="16818" y="48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8120" y="3544920"/>
            <a:ext cx="3294000" cy="98280"/>
          </a:xfrm>
          <a:custGeom>
            <a:avLst/>
            <a:gdLst/>
            <a:ahLst/>
            <a:rect l="l" t="t" r="r" b="b"/>
            <a:pathLst>
              <a:path w="9154" h="274">
                <a:moveTo>
                  <a:pt x="4465" y="10120"/>
                </a:moveTo>
                <a:cubicBezTo>
                  <a:pt x="4622" y="10095"/>
                  <a:pt x="4774" y="10054"/>
                  <a:pt x="4936" y="10046"/>
                </a:cubicBezTo>
                <a:cubicBezTo>
                  <a:pt x="5172" y="10034"/>
                  <a:pt x="5398" y="10086"/>
                  <a:pt x="5631" y="10096"/>
                </a:cubicBezTo>
                <a:cubicBezTo>
                  <a:pt x="5655" y="10096"/>
                  <a:pt x="5664" y="10096"/>
                  <a:pt x="5680" y="10096"/>
                </a:cubicBezTo>
              </a:path>
              <a:path w="9154" h="274">
                <a:moveTo>
                  <a:pt x="7739" y="10071"/>
                </a:moveTo>
                <a:cubicBezTo>
                  <a:pt x="7871" y="10036"/>
                  <a:pt x="7997" y="10007"/>
                  <a:pt x="8136" y="9996"/>
                </a:cubicBezTo>
                <a:cubicBezTo>
                  <a:pt x="8313" y="9983"/>
                  <a:pt x="8484" y="10009"/>
                  <a:pt x="8657" y="10021"/>
                </a:cubicBezTo>
                <a:cubicBezTo>
                  <a:pt x="8929" y="10040"/>
                  <a:pt x="9209" y="10014"/>
                  <a:pt x="9475" y="9996"/>
                </a:cubicBezTo>
                <a:cubicBezTo>
                  <a:pt x="9649" y="9985"/>
                  <a:pt x="9824" y="9984"/>
                  <a:pt x="9996" y="9971"/>
                </a:cubicBezTo>
                <a:cubicBezTo>
                  <a:pt x="10144" y="9960"/>
                  <a:pt x="10295" y="9951"/>
                  <a:pt x="10443" y="9947"/>
                </a:cubicBezTo>
                <a:cubicBezTo>
                  <a:pt x="10581" y="9943"/>
                  <a:pt x="10726" y="9935"/>
                  <a:pt x="10864" y="9922"/>
                </a:cubicBezTo>
                <a:cubicBezTo>
                  <a:pt x="10976" y="9911"/>
                  <a:pt x="11098" y="9910"/>
                  <a:pt x="11212" y="9897"/>
                </a:cubicBezTo>
                <a:cubicBezTo>
                  <a:pt x="11339" y="9883"/>
                  <a:pt x="11454" y="9872"/>
                  <a:pt x="11584" y="9872"/>
                </a:cubicBezTo>
                <a:cubicBezTo>
                  <a:pt x="11720" y="9872"/>
                  <a:pt x="11846" y="9851"/>
                  <a:pt x="11981" y="9847"/>
                </a:cubicBezTo>
                <a:cubicBezTo>
                  <a:pt x="12526" y="9832"/>
                  <a:pt x="13073" y="9847"/>
                  <a:pt x="13618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45000" y="4697280"/>
            <a:ext cx="1046160" cy="455760"/>
          </a:xfrm>
          <a:custGeom>
            <a:avLst/>
            <a:gdLst/>
            <a:ahLst/>
            <a:rect l="l" t="t" r="r" b="b"/>
            <a:pathLst>
              <a:path w="2903" h="1266">
                <a:moveTo>
                  <a:pt x="12626" y="13494"/>
                </a:moveTo>
                <a:lnTo>
                  <a:pt x="12626" y="13494"/>
                </a:lnTo>
                <a:lnTo>
                  <a:pt x="12626" y="13494"/>
                </a:lnTo>
              </a:path>
              <a:path w="2903" h="1266">
                <a:moveTo>
                  <a:pt x="12626" y="13494"/>
                </a:moveTo>
                <a:lnTo>
                  <a:pt x="12626" y="13494"/>
                </a:lnTo>
              </a:path>
              <a:path w="2903" h="1266">
                <a:moveTo>
                  <a:pt x="13543" y="13742"/>
                </a:moveTo>
                <a:cubicBezTo>
                  <a:pt x="13670" y="13698"/>
                  <a:pt x="14063" y="13610"/>
                  <a:pt x="13990" y="13915"/>
                </a:cubicBezTo>
                <a:cubicBezTo>
                  <a:pt x="13948" y="14094"/>
                  <a:pt x="13770" y="13997"/>
                  <a:pt x="13692" y="13965"/>
                </a:cubicBezTo>
              </a:path>
              <a:path w="2903" h="1266">
                <a:moveTo>
                  <a:pt x="14486" y="13841"/>
                </a:moveTo>
                <a:cubicBezTo>
                  <a:pt x="14506" y="13882"/>
                  <a:pt x="14515" y="13909"/>
                  <a:pt x="14511" y="13866"/>
                </a:cubicBezTo>
              </a:path>
              <a:path w="2903" h="1266">
                <a:moveTo>
                  <a:pt x="14362" y="13494"/>
                </a:moveTo>
                <a:lnTo>
                  <a:pt x="14362" y="13494"/>
                </a:lnTo>
                <a:lnTo>
                  <a:pt x="14362" y="13494"/>
                </a:lnTo>
              </a:path>
              <a:path w="2903" h="1266">
                <a:moveTo>
                  <a:pt x="14362" y="13494"/>
                </a:moveTo>
                <a:lnTo>
                  <a:pt x="14362" y="13494"/>
                </a:lnTo>
              </a:path>
              <a:path w="2903" h="1266">
                <a:moveTo>
                  <a:pt x="15056" y="13047"/>
                </a:moveTo>
                <a:cubicBezTo>
                  <a:pt x="15341" y="13323"/>
                  <a:pt x="15655" y="13645"/>
                  <a:pt x="15478" y="14089"/>
                </a:cubicBezTo>
                <a:cubicBezTo>
                  <a:pt x="15349" y="14262"/>
                  <a:pt x="15331" y="14323"/>
                  <a:pt x="15180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0160" y="4759200"/>
            <a:ext cx="1197000" cy="455760"/>
          </a:xfrm>
          <a:custGeom>
            <a:avLst/>
            <a:gdLst/>
            <a:ahLst/>
            <a:rect l="l" t="t" r="r" b="b"/>
            <a:pathLst>
              <a:path w="3325" h="1266">
                <a:moveTo>
                  <a:pt x="12278" y="13221"/>
                </a:moveTo>
                <a:cubicBezTo>
                  <a:pt x="12116" y="13358"/>
                  <a:pt x="12079" y="13679"/>
                  <a:pt x="12055" y="13891"/>
                </a:cubicBezTo>
                <a:cubicBezTo>
                  <a:pt x="12043" y="13998"/>
                  <a:pt x="12056" y="14243"/>
                  <a:pt x="12129" y="14163"/>
                </a:cubicBezTo>
                <a:cubicBezTo>
                  <a:pt x="12137" y="14147"/>
                  <a:pt x="12146" y="14130"/>
                  <a:pt x="12154" y="14114"/>
                </a:cubicBezTo>
              </a:path>
              <a:path w="3325" h="1266">
                <a:moveTo>
                  <a:pt x="12526" y="13419"/>
                </a:moveTo>
                <a:cubicBezTo>
                  <a:pt x="12448" y="13489"/>
                  <a:pt x="12330" y="13562"/>
                  <a:pt x="12303" y="13667"/>
                </a:cubicBezTo>
                <a:cubicBezTo>
                  <a:pt x="12468" y="13711"/>
                  <a:pt x="12679" y="13777"/>
                  <a:pt x="12452" y="13965"/>
                </a:cubicBezTo>
                <a:cubicBezTo>
                  <a:pt x="12340" y="14058"/>
                  <a:pt x="12149" y="14098"/>
                  <a:pt x="12204" y="13915"/>
                </a:cubicBezTo>
              </a:path>
              <a:path w="3325" h="1266">
                <a:moveTo>
                  <a:pt x="12750" y="13717"/>
                </a:moveTo>
                <a:cubicBezTo>
                  <a:pt x="12750" y="13774"/>
                  <a:pt x="12792" y="14174"/>
                  <a:pt x="12725" y="13866"/>
                </a:cubicBezTo>
              </a:path>
              <a:path w="3325" h="1266">
                <a:moveTo>
                  <a:pt x="12923" y="13866"/>
                </a:moveTo>
                <a:cubicBezTo>
                  <a:pt x="12943" y="13965"/>
                  <a:pt x="12951" y="13980"/>
                  <a:pt x="12948" y="14039"/>
                </a:cubicBezTo>
                <a:cubicBezTo>
                  <a:pt x="12948" y="13918"/>
                  <a:pt x="12956" y="13811"/>
                  <a:pt x="12973" y="13692"/>
                </a:cubicBezTo>
                <a:cubicBezTo>
                  <a:pt x="13138" y="13677"/>
                  <a:pt x="13178" y="13743"/>
                  <a:pt x="13246" y="13891"/>
                </a:cubicBezTo>
                <a:cubicBezTo>
                  <a:pt x="13273" y="13846"/>
                  <a:pt x="13296" y="13667"/>
                  <a:pt x="13370" y="13667"/>
                </a:cubicBezTo>
                <a:cubicBezTo>
                  <a:pt x="13536" y="13667"/>
                  <a:pt x="13526" y="13910"/>
                  <a:pt x="13543" y="14015"/>
                </a:cubicBezTo>
                <a:cubicBezTo>
                  <a:pt x="13543" y="14007"/>
                  <a:pt x="13543" y="13998"/>
                  <a:pt x="13543" y="13990"/>
                </a:cubicBezTo>
              </a:path>
              <a:path w="3325" h="1266">
                <a:moveTo>
                  <a:pt x="13643" y="13791"/>
                </a:moveTo>
                <a:cubicBezTo>
                  <a:pt x="13701" y="13985"/>
                  <a:pt x="13728" y="14235"/>
                  <a:pt x="13816" y="14412"/>
                </a:cubicBezTo>
                <a:cubicBezTo>
                  <a:pt x="13816" y="14329"/>
                  <a:pt x="13787" y="14270"/>
                  <a:pt x="13717" y="14213"/>
                </a:cubicBezTo>
              </a:path>
              <a:path w="3325" h="1266">
                <a:moveTo>
                  <a:pt x="14089" y="13419"/>
                </a:moveTo>
                <a:cubicBezTo>
                  <a:pt x="14217" y="13603"/>
                  <a:pt x="14282" y="13797"/>
                  <a:pt x="14387" y="13990"/>
                </a:cubicBezTo>
                <a:cubicBezTo>
                  <a:pt x="14387" y="13982"/>
                  <a:pt x="14387" y="13973"/>
                  <a:pt x="14387" y="13965"/>
                </a:cubicBezTo>
              </a:path>
              <a:path w="3325" h="1266">
                <a:moveTo>
                  <a:pt x="14833" y="13370"/>
                </a:moveTo>
                <a:cubicBezTo>
                  <a:pt x="14594" y="13418"/>
                  <a:pt x="14667" y="13530"/>
                  <a:pt x="14734" y="13742"/>
                </a:cubicBezTo>
                <a:cubicBezTo>
                  <a:pt x="14761" y="13829"/>
                  <a:pt x="14943" y="14105"/>
                  <a:pt x="14759" y="13940"/>
                </a:cubicBezTo>
              </a:path>
              <a:path w="3325" h="1266">
                <a:moveTo>
                  <a:pt x="14585" y="13767"/>
                </a:moveTo>
                <a:cubicBezTo>
                  <a:pt x="14743" y="13793"/>
                  <a:pt x="14891" y="13733"/>
                  <a:pt x="15032" y="13742"/>
                </a:cubicBezTo>
                <a:cubicBezTo>
                  <a:pt x="15072" y="13744"/>
                  <a:pt x="15091" y="13877"/>
                  <a:pt x="15106" y="13915"/>
                </a:cubicBezTo>
                <a:cubicBezTo>
                  <a:pt x="15162" y="13874"/>
                  <a:pt x="15174" y="13769"/>
                  <a:pt x="15205" y="13692"/>
                </a:cubicBezTo>
                <a:cubicBezTo>
                  <a:pt x="15272" y="13848"/>
                  <a:pt x="15406" y="13992"/>
                  <a:pt x="15379" y="14188"/>
                </a:cubicBezTo>
                <a:cubicBezTo>
                  <a:pt x="15321" y="14609"/>
                  <a:pt x="14983" y="14470"/>
                  <a:pt x="14784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et’s try some together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76520" y="1600200"/>
          <a:ext cx="16002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676520" y="3886200"/>
          <a:ext cx="1447560" cy="12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886200"/>
                    <a:ext cx="14475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027160" y="2990880"/>
            <a:ext cx="44640" cy="98280"/>
          </a:xfrm>
          <a:custGeom>
            <a:avLst/>
            <a:gdLst/>
            <a:ahLst/>
            <a:rect l="l" t="t" r="r" b="b"/>
            <a:pathLst>
              <a:path w="125" h="273">
                <a:moveTo>
                  <a:pt x="5631" y="8310"/>
                </a:moveTo>
                <a:lnTo>
                  <a:pt x="5631" y="8310"/>
                </a:lnTo>
              </a:path>
              <a:path w="125" h="273">
                <a:moveTo>
                  <a:pt x="5755" y="8582"/>
                </a:moveTo>
                <a:lnTo>
                  <a:pt x="5755" y="8582"/>
                </a:lnTo>
                <a:lnTo>
                  <a:pt x="5755" y="8582"/>
                </a:lnTo>
              </a:path>
              <a:path w="125" h="273">
                <a:moveTo>
                  <a:pt x="5755" y="8582"/>
                </a:moveTo>
                <a:lnTo>
                  <a:pt x="5755" y="858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14760" y="3241800"/>
            <a:ext cx="71280" cy="152280"/>
          </a:xfrm>
          <a:custGeom>
            <a:avLst/>
            <a:gdLst/>
            <a:ahLst/>
            <a:rect l="l" t="t" r="r" b="b"/>
            <a:pathLst>
              <a:path w="199" h="423">
                <a:moveTo>
                  <a:pt x="7541" y="9004"/>
                </a:moveTo>
                <a:lnTo>
                  <a:pt x="7541" y="9004"/>
                </a:lnTo>
              </a:path>
              <a:path w="199" h="423">
                <a:moveTo>
                  <a:pt x="7714" y="9426"/>
                </a:moveTo>
                <a:cubicBezTo>
                  <a:pt x="7722" y="9426"/>
                  <a:pt x="7731" y="9426"/>
                  <a:pt x="7739" y="9426"/>
                </a:cubicBezTo>
              </a:path>
              <a:path w="199" h="423">
                <a:moveTo>
                  <a:pt x="7739" y="9426"/>
                </a:moveTo>
                <a:lnTo>
                  <a:pt x="7739" y="94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1760" y="4367160"/>
            <a:ext cx="80640" cy="79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7615" y="12154"/>
                </a:moveTo>
                <a:cubicBezTo>
                  <a:pt x="7693" y="12143"/>
                  <a:pt x="7759" y="12134"/>
                  <a:pt x="7838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8320" y="4000680"/>
            <a:ext cx="1758960" cy="812520"/>
          </a:xfrm>
          <a:custGeom>
            <a:avLst/>
            <a:gdLst/>
            <a:ahLst/>
            <a:rect l="l" t="t" r="r" b="b"/>
            <a:pathLst>
              <a:path w="4888" h="2259">
                <a:moveTo>
                  <a:pt x="5060" y="11832"/>
                </a:moveTo>
                <a:cubicBezTo>
                  <a:pt x="5143" y="11749"/>
                  <a:pt x="5321" y="11651"/>
                  <a:pt x="5333" y="11857"/>
                </a:cubicBezTo>
                <a:cubicBezTo>
                  <a:pt x="5339" y="11963"/>
                  <a:pt x="5274" y="11976"/>
                  <a:pt x="5209" y="12030"/>
                </a:cubicBezTo>
                <a:cubicBezTo>
                  <a:pt x="5302" y="11990"/>
                  <a:pt x="5439" y="11974"/>
                  <a:pt x="5407" y="12129"/>
                </a:cubicBezTo>
                <a:cubicBezTo>
                  <a:pt x="5374" y="12287"/>
                  <a:pt x="5214" y="12291"/>
                  <a:pt x="5085" y="12303"/>
                </a:cubicBezTo>
              </a:path>
              <a:path w="4888" h="2259">
                <a:moveTo>
                  <a:pt x="4911" y="12502"/>
                </a:moveTo>
                <a:cubicBezTo>
                  <a:pt x="5123" y="12439"/>
                  <a:pt x="5339" y="12373"/>
                  <a:pt x="5556" y="12328"/>
                </a:cubicBezTo>
                <a:cubicBezTo>
                  <a:pt x="5564" y="12328"/>
                  <a:pt x="5573" y="12328"/>
                  <a:pt x="5581" y="12328"/>
                </a:cubicBezTo>
              </a:path>
              <a:path w="4888" h="2259">
                <a:moveTo>
                  <a:pt x="5011" y="12750"/>
                </a:moveTo>
                <a:cubicBezTo>
                  <a:pt x="5004" y="12891"/>
                  <a:pt x="4903" y="13285"/>
                  <a:pt x="4986" y="13171"/>
                </a:cubicBezTo>
                <a:cubicBezTo>
                  <a:pt x="4994" y="13146"/>
                  <a:pt x="5003" y="13122"/>
                  <a:pt x="5011" y="13097"/>
                </a:cubicBezTo>
              </a:path>
              <a:path w="4888" h="2259">
                <a:moveTo>
                  <a:pt x="5209" y="12700"/>
                </a:moveTo>
                <a:cubicBezTo>
                  <a:pt x="5200" y="12893"/>
                  <a:pt x="5155" y="13005"/>
                  <a:pt x="5283" y="13146"/>
                </a:cubicBezTo>
                <a:cubicBezTo>
                  <a:pt x="5338" y="13101"/>
                  <a:pt x="5584" y="12882"/>
                  <a:pt x="5432" y="12799"/>
                </a:cubicBezTo>
                <a:cubicBezTo>
                  <a:pt x="5333" y="12799"/>
                  <a:pt x="5300" y="12799"/>
                  <a:pt x="5234" y="12799"/>
                </a:cubicBezTo>
              </a:path>
              <a:path w="4888" h="2259">
                <a:moveTo>
                  <a:pt x="5928" y="12229"/>
                </a:moveTo>
                <a:cubicBezTo>
                  <a:pt x="6008" y="12340"/>
                  <a:pt x="6073" y="12481"/>
                  <a:pt x="6176" y="12576"/>
                </a:cubicBezTo>
                <a:cubicBezTo>
                  <a:pt x="6176" y="12568"/>
                  <a:pt x="6176" y="12559"/>
                  <a:pt x="6176" y="12551"/>
                </a:cubicBezTo>
              </a:path>
              <a:path w="4888" h="2259">
                <a:moveTo>
                  <a:pt x="6127" y="12129"/>
                </a:moveTo>
                <a:cubicBezTo>
                  <a:pt x="6087" y="12306"/>
                  <a:pt x="6022" y="12475"/>
                  <a:pt x="5978" y="12650"/>
                </a:cubicBezTo>
                <a:cubicBezTo>
                  <a:pt x="5978" y="12683"/>
                  <a:pt x="5978" y="12683"/>
                  <a:pt x="5978" y="12626"/>
                </a:cubicBezTo>
              </a:path>
              <a:path w="4888" h="2259">
                <a:moveTo>
                  <a:pt x="6821" y="11534"/>
                </a:moveTo>
                <a:cubicBezTo>
                  <a:pt x="6836" y="11671"/>
                  <a:pt x="6864" y="11820"/>
                  <a:pt x="6896" y="11956"/>
                </a:cubicBezTo>
                <a:cubicBezTo>
                  <a:pt x="6904" y="11981"/>
                  <a:pt x="6913" y="12005"/>
                  <a:pt x="6921" y="12030"/>
                </a:cubicBezTo>
              </a:path>
              <a:path w="4888" h="2259">
                <a:moveTo>
                  <a:pt x="6697" y="12278"/>
                </a:moveTo>
                <a:cubicBezTo>
                  <a:pt x="6828" y="12203"/>
                  <a:pt x="6973" y="12141"/>
                  <a:pt x="7094" y="12055"/>
                </a:cubicBezTo>
              </a:path>
              <a:path w="4888" h="2259">
                <a:moveTo>
                  <a:pt x="6796" y="12402"/>
                </a:moveTo>
                <a:cubicBezTo>
                  <a:pt x="6822" y="12352"/>
                  <a:pt x="6954" y="12252"/>
                  <a:pt x="7020" y="12328"/>
                </a:cubicBezTo>
                <a:cubicBezTo>
                  <a:pt x="7127" y="12452"/>
                  <a:pt x="6973" y="12704"/>
                  <a:pt x="6896" y="12799"/>
                </a:cubicBezTo>
                <a:cubicBezTo>
                  <a:pt x="6871" y="12824"/>
                  <a:pt x="6846" y="12849"/>
                  <a:pt x="6821" y="12874"/>
                </a:cubicBezTo>
                <a:cubicBezTo>
                  <a:pt x="6798" y="12737"/>
                  <a:pt x="6787" y="12790"/>
                  <a:pt x="6896" y="12725"/>
                </a:cubicBezTo>
                <a:cubicBezTo>
                  <a:pt x="6964" y="12685"/>
                  <a:pt x="7012" y="12721"/>
                  <a:pt x="7094" y="12725"/>
                </a:cubicBezTo>
                <a:cubicBezTo>
                  <a:pt x="7152" y="12728"/>
                  <a:pt x="7173" y="12727"/>
                  <a:pt x="7218" y="12700"/>
                </a:cubicBezTo>
              </a:path>
              <a:path w="4888" h="2259">
                <a:moveTo>
                  <a:pt x="7640" y="12328"/>
                </a:moveTo>
                <a:cubicBezTo>
                  <a:pt x="7721" y="12306"/>
                  <a:pt x="7773" y="12281"/>
                  <a:pt x="7838" y="12303"/>
                </a:cubicBezTo>
              </a:path>
              <a:path w="4888" h="2259">
                <a:moveTo>
                  <a:pt x="8483" y="11485"/>
                </a:moveTo>
                <a:cubicBezTo>
                  <a:pt x="8473" y="11524"/>
                  <a:pt x="8428" y="11623"/>
                  <a:pt x="8384" y="11633"/>
                </a:cubicBezTo>
                <a:cubicBezTo>
                  <a:pt x="8384" y="11625"/>
                  <a:pt x="8384" y="11617"/>
                  <a:pt x="8384" y="11609"/>
                </a:cubicBezTo>
                <a:cubicBezTo>
                  <a:pt x="8429" y="11563"/>
                  <a:pt x="8597" y="11385"/>
                  <a:pt x="8657" y="11534"/>
                </a:cubicBezTo>
                <a:cubicBezTo>
                  <a:pt x="8688" y="11611"/>
                  <a:pt x="8548" y="11700"/>
                  <a:pt x="8508" y="11733"/>
                </a:cubicBezTo>
                <a:cubicBezTo>
                  <a:pt x="8596" y="11754"/>
                  <a:pt x="8638" y="11874"/>
                  <a:pt x="8582" y="11956"/>
                </a:cubicBezTo>
                <a:cubicBezTo>
                  <a:pt x="8557" y="11992"/>
                  <a:pt x="8317" y="12087"/>
                  <a:pt x="8310" y="12005"/>
                </a:cubicBezTo>
                <a:cubicBezTo>
                  <a:pt x="8351" y="12005"/>
                  <a:pt x="8376" y="12005"/>
                  <a:pt x="8409" y="12005"/>
                </a:cubicBezTo>
              </a:path>
              <a:path w="4888" h="2259">
                <a:moveTo>
                  <a:pt x="8186" y="12278"/>
                </a:moveTo>
                <a:cubicBezTo>
                  <a:pt x="8288" y="12278"/>
                  <a:pt x="8854" y="12224"/>
                  <a:pt x="8880" y="12303"/>
                </a:cubicBezTo>
              </a:path>
              <a:path w="4888" h="2259">
                <a:moveTo>
                  <a:pt x="8235" y="12502"/>
                </a:moveTo>
                <a:cubicBezTo>
                  <a:pt x="8397" y="12461"/>
                  <a:pt x="8381" y="12655"/>
                  <a:pt x="8310" y="12774"/>
                </a:cubicBezTo>
                <a:cubicBezTo>
                  <a:pt x="8228" y="12911"/>
                  <a:pt x="8065" y="12975"/>
                  <a:pt x="7962" y="12874"/>
                </a:cubicBezTo>
                <a:cubicBezTo>
                  <a:pt x="8097" y="12768"/>
                  <a:pt x="8205" y="12807"/>
                  <a:pt x="8359" y="12898"/>
                </a:cubicBezTo>
                <a:cubicBezTo>
                  <a:pt x="8384" y="12923"/>
                  <a:pt x="8392" y="12931"/>
                  <a:pt x="8409" y="12948"/>
                </a:cubicBezTo>
              </a:path>
              <a:path w="4888" h="2259">
                <a:moveTo>
                  <a:pt x="8731" y="12601"/>
                </a:moveTo>
                <a:cubicBezTo>
                  <a:pt x="8701" y="12540"/>
                  <a:pt x="8609" y="12769"/>
                  <a:pt x="8607" y="12799"/>
                </a:cubicBezTo>
                <a:cubicBezTo>
                  <a:pt x="8631" y="12894"/>
                  <a:pt x="8637" y="12924"/>
                  <a:pt x="8682" y="12973"/>
                </a:cubicBezTo>
                <a:cubicBezTo>
                  <a:pt x="8828" y="12945"/>
                  <a:pt x="9034" y="12837"/>
                  <a:pt x="8880" y="12650"/>
                </a:cubicBezTo>
                <a:cubicBezTo>
                  <a:pt x="8806" y="12626"/>
                  <a:pt x="8781" y="12618"/>
                  <a:pt x="8731" y="12650"/>
                </a:cubicBezTo>
              </a:path>
              <a:path w="4888" h="2259">
                <a:moveTo>
                  <a:pt x="8086" y="13196"/>
                </a:moveTo>
                <a:cubicBezTo>
                  <a:pt x="8115" y="13242"/>
                  <a:pt x="8212" y="13309"/>
                  <a:pt x="8359" y="13320"/>
                </a:cubicBezTo>
                <a:cubicBezTo>
                  <a:pt x="8625" y="13340"/>
                  <a:pt x="8928" y="13289"/>
                  <a:pt x="9178" y="13196"/>
                </a:cubicBezTo>
                <a:cubicBezTo>
                  <a:pt x="9378" y="13122"/>
                  <a:pt x="9538" y="12952"/>
                  <a:pt x="9649" y="12774"/>
                </a:cubicBezTo>
                <a:cubicBezTo>
                  <a:pt x="9775" y="12571"/>
                  <a:pt x="9801" y="12384"/>
                  <a:pt x="9773" y="12154"/>
                </a:cubicBezTo>
                <a:cubicBezTo>
                  <a:pt x="9752" y="11985"/>
                  <a:pt x="9717" y="11828"/>
                  <a:pt x="9624" y="11683"/>
                </a:cubicBezTo>
                <a:cubicBezTo>
                  <a:pt x="9537" y="11547"/>
                  <a:pt x="9420" y="11391"/>
                  <a:pt x="9277" y="11311"/>
                </a:cubicBezTo>
                <a:cubicBezTo>
                  <a:pt x="9131" y="11229"/>
                  <a:pt x="8951" y="11129"/>
                  <a:pt x="8781" y="11112"/>
                </a:cubicBezTo>
                <a:cubicBezTo>
                  <a:pt x="8590" y="11093"/>
                  <a:pt x="8402" y="11150"/>
                  <a:pt x="8235" y="11237"/>
                </a:cubicBezTo>
                <a:cubicBezTo>
                  <a:pt x="8053" y="11332"/>
                  <a:pt x="7879" y="11513"/>
                  <a:pt x="7764" y="11683"/>
                </a:cubicBezTo>
                <a:cubicBezTo>
                  <a:pt x="7659" y="11838"/>
                  <a:pt x="7682" y="12007"/>
                  <a:pt x="7689" y="12179"/>
                </a:cubicBezTo>
                <a:cubicBezTo>
                  <a:pt x="7696" y="12353"/>
                  <a:pt x="7727" y="12488"/>
                  <a:pt x="7789" y="12650"/>
                </a:cubicBezTo>
                <a:cubicBezTo>
                  <a:pt x="7850" y="12809"/>
                  <a:pt x="7918" y="12956"/>
                  <a:pt x="8012" y="13097"/>
                </a:cubicBezTo>
                <a:cubicBezTo>
                  <a:pt x="8085" y="13206"/>
                  <a:pt x="8168" y="13348"/>
                  <a:pt x="8310" y="13370"/>
                </a:cubicBezTo>
                <a:cubicBezTo>
                  <a:pt x="8350" y="13376"/>
                  <a:pt x="8393" y="13367"/>
                  <a:pt x="8434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8840" y="2401920"/>
            <a:ext cx="258840" cy="9360"/>
          </a:xfrm>
          <a:custGeom>
            <a:avLst/>
            <a:gdLst/>
            <a:ahLst/>
            <a:rect l="l" t="t" r="r" b="b"/>
            <a:pathLst>
              <a:path w="721" h="26">
                <a:moveTo>
                  <a:pt x="7218" y="6697"/>
                </a:moveTo>
                <a:cubicBezTo>
                  <a:pt x="7368" y="6697"/>
                  <a:pt x="7513" y="6675"/>
                  <a:pt x="7665" y="6672"/>
                </a:cubicBezTo>
                <a:cubicBezTo>
                  <a:pt x="7756" y="6670"/>
                  <a:pt x="7847" y="6672"/>
                  <a:pt x="7938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1760" y="2517840"/>
            <a:ext cx="27000" cy="1620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7640" y="7045"/>
                </a:moveTo>
                <a:cubicBezTo>
                  <a:pt x="7633" y="7024"/>
                  <a:pt x="7615" y="6977"/>
                  <a:pt x="7615" y="7020"/>
                </a:cubicBezTo>
                <a:cubicBezTo>
                  <a:pt x="7615" y="7154"/>
                  <a:pt x="7658" y="7283"/>
                  <a:pt x="7665" y="7417"/>
                </a:cubicBezTo>
                <a:cubicBezTo>
                  <a:pt x="7665" y="7441"/>
                  <a:pt x="7665" y="7449"/>
                  <a:pt x="768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66960" y="3017880"/>
            <a:ext cx="12528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5482" y="8607"/>
                </a:moveTo>
                <a:cubicBezTo>
                  <a:pt x="5493" y="8574"/>
                  <a:pt x="5556" y="8571"/>
                  <a:pt x="5531" y="8508"/>
                </a:cubicBezTo>
                <a:cubicBezTo>
                  <a:pt x="5489" y="8405"/>
                  <a:pt x="5388" y="8309"/>
                  <a:pt x="5283" y="8434"/>
                </a:cubicBezTo>
                <a:cubicBezTo>
                  <a:pt x="5207" y="8525"/>
                  <a:pt x="5185" y="8637"/>
                  <a:pt x="5209" y="8731"/>
                </a:cubicBezTo>
                <a:cubicBezTo>
                  <a:pt x="5398" y="8760"/>
                  <a:pt x="5439" y="8688"/>
                  <a:pt x="5507" y="8508"/>
                </a:cubicBezTo>
                <a:cubicBezTo>
                  <a:pt x="5507" y="8500"/>
                  <a:pt x="5507" y="8491"/>
                  <a:pt x="5507" y="8483"/>
                </a:cubicBezTo>
                <a:cubicBezTo>
                  <a:pt x="5507" y="8624"/>
                  <a:pt x="5448" y="8889"/>
                  <a:pt x="5531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1040" y="3286080"/>
            <a:ext cx="374760" cy="27000"/>
          </a:xfrm>
          <a:custGeom>
            <a:avLst/>
            <a:gdLst/>
            <a:ahLst/>
            <a:rect l="l" t="t" r="r" b="b"/>
            <a:pathLst>
              <a:path w="1043" h="76">
                <a:moveTo>
                  <a:pt x="4862" y="9203"/>
                </a:moveTo>
                <a:cubicBezTo>
                  <a:pt x="5053" y="9203"/>
                  <a:pt x="5242" y="9174"/>
                  <a:pt x="5432" y="9153"/>
                </a:cubicBezTo>
                <a:cubicBezTo>
                  <a:pt x="5593" y="9135"/>
                  <a:pt x="5743" y="9128"/>
                  <a:pt x="5904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0240" y="337500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5110" y="9376"/>
                </a:moveTo>
                <a:cubicBezTo>
                  <a:pt x="5127" y="9494"/>
                  <a:pt x="5141" y="9629"/>
                  <a:pt x="5110" y="9748"/>
                </a:cubicBezTo>
                <a:cubicBezTo>
                  <a:pt x="5087" y="9771"/>
                  <a:pt x="5076" y="9779"/>
                  <a:pt x="5110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63800" y="335772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5581" y="9327"/>
                </a:moveTo>
                <a:cubicBezTo>
                  <a:pt x="5545" y="9415"/>
                  <a:pt x="5479" y="9467"/>
                  <a:pt x="5457" y="9575"/>
                </a:cubicBezTo>
                <a:cubicBezTo>
                  <a:pt x="5457" y="9626"/>
                  <a:pt x="5458" y="9645"/>
                  <a:pt x="5482" y="9674"/>
                </a:cubicBezTo>
                <a:cubicBezTo>
                  <a:pt x="5616" y="9662"/>
                  <a:pt x="5710" y="9652"/>
                  <a:pt x="5779" y="9525"/>
                </a:cubicBezTo>
                <a:cubicBezTo>
                  <a:pt x="5819" y="9451"/>
                  <a:pt x="5791" y="9371"/>
                  <a:pt x="5705" y="9351"/>
                </a:cubicBezTo>
                <a:cubicBezTo>
                  <a:pt x="5679" y="9345"/>
                  <a:pt x="5635" y="9351"/>
                  <a:pt x="5606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24080" y="3160800"/>
            <a:ext cx="1062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6176" y="8781"/>
                </a:moveTo>
                <a:cubicBezTo>
                  <a:pt x="6247" y="8869"/>
                  <a:pt x="6307" y="8966"/>
                  <a:pt x="6375" y="9054"/>
                </a:cubicBezTo>
                <a:cubicBezTo>
                  <a:pt x="6405" y="9093"/>
                  <a:pt x="6440" y="9136"/>
                  <a:pt x="6474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5000" y="3152880"/>
            <a:ext cx="14436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6524" y="8756"/>
                </a:moveTo>
                <a:cubicBezTo>
                  <a:pt x="6430" y="8775"/>
                  <a:pt x="6391" y="8862"/>
                  <a:pt x="6325" y="8930"/>
                </a:cubicBezTo>
                <a:cubicBezTo>
                  <a:pt x="6260" y="8998"/>
                  <a:pt x="6166" y="9091"/>
                  <a:pt x="6127" y="9178"/>
                </a:cubicBezTo>
                <a:cubicBezTo>
                  <a:pt x="6127" y="9186"/>
                  <a:pt x="6127" y="9195"/>
                  <a:pt x="6127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0200" y="2946240"/>
            <a:ext cx="17640" cy="152640"/>
          </a:xfrm>
          <a:custGeom>
            <a:avLst/>
            <a:gdLst/>
            <a:ahLst/>
            <a:rect l="l" t="t" r="r" b="b"/>
            <a:pathLst>
              <a:path w="51" h="422">
                <a:moveTo>
                  <a:pt x="6945" y="8186"/>
                </a:moveTo>
                <a:cubicBezTo>
                  <a:pt x="6945" y="8314"/>
                  <a:pt x="6956" y="8432"/>
                  <a:pt x="6970" y="8558"/>
                </a:cubicBezTo>
                <a:cubicBezTo>
                  <a:pt x="6975" y="8601"/>
                  <a:pt x="6956" y="8594"/>
                  <a:pt x="6995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3125880"/>
            <a:ext cx="223920" cy="36360"/>
          </a:xfrm>
          <a:custGeom>
            <a:avLst/>
            <a:gdLst/>
            <a:ahLst/>
            <a:rect l="l" t="t" r="r" b="b"/>
            <a:pathLst>
              <a:path w="621" h="100">
                <a:moveTo>
                  <a:pt x="6697" y="8781"/>
                </a:moveTo>
                <a:cubicBezTo>
                  <a:pt x="6820" y="8781"/>
                  <a:pt x="6977" y="8758"/>
                  <a:pt x="7094" y="8731"/>
                </a:cubicBezTo>
                <a:cubicBezTo>
                  <a:pt x="7217" y="8691"/>
                  <a:pt x="7239" y="8674"/>
                  <a:pt x="7317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73200" y="3205080"/>
            <a:ext cx="152640" cy="206280"/>
          </a:xfrm>
          <a:custGeom>
            <a:avLst/>
            <a:gdLst/>
            <a:ahLst/>
            <a:rect l="l" t="t" r="r" b="b"/>
            <a:pathLst>
              <a:path w="423" h="571">
                <a:moveTo>
                  <a:pt x="6970" y="8905"/>
                </a:moveTo>
                <a:cubicBezTo>
                  <a:pt x="6931" y="9041"/>
                  <a:pt x="6888" y="9186"/>
                  <a:pt x="6871" y="9327"/>
                </a:cubicBezTo>
                <a:cubicBezTo>
                  <a:pt x="6855" y="9459"/>
                  <a:pt x="6909" y="9471"/>
                  <a:pt x="7020" y="9475"/>
                </a:cubicBezTo>
                <a:cubicBezTo>
                  <a:pt x="7134" y="9479"/>
                  <a:pt x="7238" y="9400"/>
                  <a:pt x="7293" y="9302"/>
                </a:cubicBezTo>
                <a:cubicBezTo>
                  <a:pt x="7317" y="9260"/>
                  <a:pt x="7271" y="9137"/>
                  <a:pt x="7218" y="9153"/>
                </a:cubicBezTo>
                <a:cubicBezTo>
                  <a:pt x="7125" y="9181"/>
                  <a:pt x="7024" y="9299"/>
                  <a:pt x="7045" y="9401"/>
                </a:cubicBezTo>
                <a:cubicBezTo>
                  <a:pt x="7064" y="9442"/>
                  <a:pt x="7072" y="9448"/>
                  <a:pt x="7069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4160" y="3009960"/>
            <a:ext cx="17640" cy="442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5705" y="8483"/>
                </a:moveTo>
                <a:cubicBezTo>
                  <a:pt x="5705" y="8423"/>
                  <a:pt x="5733" y="8433"/>
                  <a:pt x="5755" y="8384"/>
                </a:cubicBezTo>
                <a:cubicBezTo>
                  <a:pt x="5755" y="8376"/>
                  <a:pt x="5755" y="8367"/>
                  <a:pt x="575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89080" y="2911320"/>
            <a:ext cx="90720" cy="10656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5804" y="8210"/>
                </a:moveTo>
                <a:cubicBezTo>
                  <a:pt x="5819" y="8150"/>
                  <a:pt x="5853" y="8122"/>
                  <a:pt x="5904" y="8086"/>
                </a:cubicBezTo>
                <a:cubicBezTo>
                  <a:pt x="5920" y="8147"/>
                  <a:pt x="5928" y="8175"/>
                  <a:pt x="5928" y="8235"/>
                </a:cubicBezTo>
                <a:cubicBezTo>
                  <a:pt x="6037" y="8163"/>
                  <a:pt x="6079" y="8209"/>
                  <a:pt x="6028" y="8334"/>
                </a:cubicBezTo>
                <a:cubicBezTo>
                  <a:pt x="5998" y="8364"/>
                  <a:pt x="5984" y="8375"/>
                  <a:pt x="5953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14760" y="3321000"/>
            <a:ext cx="36360" cy="3672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7541" y="9327"/>
                </a:moveTo>
                <a:cubicBezTo>
                  <a:pt x="7576" y="9309"/>
                  <a:pt x="7606" y="9265"/>
                  <a:pt x="7640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20960" y="320508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7838" y="9004"/>
                </a:moveTo>
                <a:cubicBezTo>
                  <a:pt x="7846" y="8994"/>
                  <a:pt x="8012" y="8835"/>
                  <a:pt x="8012" y="8954"/>
                </a:cubicBezTo>
                <a:cubicBezTo>
                  <a:pt x="7989" y="9022"/>
                  <a:pt x="7985" y="9040"/>
                  <a:pt x="7962" y="9079"/>
                </a:cubicBezTo>
                <a:cubicBezTo>
                  <a:pt x="8028" y="9057"/>
                  <a:pt x="8065" y="9041"/>
                  <a:pt x="8136" y="9029"/>
                </a:cubicBezTo>
                <a:cubicBezTo>
                  <a:pt x="8114" y="9183"/>
                  <a:pt x="8064" y="9201"/>
                  <a:pt x="7938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12960" y="2894040"/>
            <a:ext cx="349200" cy="330120"/>
          </a:xfrm>
          <a:custGeom>
            <a:avLst/>
            <a:gdLst/>
            <a:ahLst/>
            <a:rect l="l" t="t" r="r" b="b"/>
            <a:pathLst>
              <a:path w="969" h="918">
                <a:moveTo>
                  <a:pt x="5060" y="8954"/>
                </a:moveTo>
                <a:cubicBezTo>
                  <a:pt x="5127" y="8890"/>
                  <a:pt x="5145" y="8848"/>
                  <a:pt x="5209" y="8781"/>
                </a:cubicBezTo>
                <a:cubicBezTo>
                  <a:pt x="5408" y="8572"/>
                  <a:pt x="5602" y="8317"/>
                  <a:pt x="5829" y="8136"/>
                </a:cubicBezTo>
                <a:cubicBezTo>
                  <a:pt x="5879" y="8096"/>
                  <a:pt x="5953" y="8065"/>
                  <a:pt x="6003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33680" y="2955960"/>
            <a:ext cx="10764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4564" y="8384"/>
                </a:moveTo>
                <a:cubicBezTo>
                  <a:pt x="4485" y="8358"/>
                  <a:pt x="4574" y="8290"/>
                  <a:pt x="4614" y="8260"/>
                </a:cubicBezTo>
                <a:cubicBezTo>
                  <a:pt x="4673" y="8220"/>
                  <a:pt x="4685" y="8191"/>
                  <a:pt x="4713" y="8235"/>
                </a:cubicBezTo>
                <a:cubicBezTo>
                  <a:pt x="4748" y="8338"/>
                  <a:pt x="4738" y="8335"/>
                  <a:pt x="4688" y="8434"/>
                </a:cubicBezTo>
                <a:cubicBezTo>
                  <a:pt x="4765" y="8434"/>
                  <a:pt x="4865" y="8426"/>
                  <a:pt x="4837" y="8558"/>
                </a:cubicBezTo>
                <a:cubicBezTo>
                  <a:pt x="4817" y="8652"/>
                  <a:pt x="4710" y="8677"/>
                  <a:pt x="4638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9200" y="3224160"/>
            <a:ext cx="455760" cy="150840"/>
          </a:xfrm>
          <a:custGeom>
            <a:avLst/>
            <a:gdLst/>
            <a:ahLst/>
            <a:rect l="l" t="t" r="r" b="b"/>
            <a:pathLst>
              <a:path w="1266" h="423">
                <a:moveTo>
                  <a:pt x="6747" y="9376"/>
                </a:moveTo>
                <a:cubicBezTo>
                  <a:pt x="6799" y="9324"/>
                  <a:pt x="6828" y="9329"/>
                  <a:pt x="6896" y="9302"/>
                </a:cubicBezTo>
                <a:cubicBezTo>
                  <a:pt x="7199" y="9183"/>
                  <a:pt x="7496" y="9078"/>
                  <a:pt x="7813" y="9004"/>
                </a:cubicBezTo>
                <a:cubicBezTo>
                  <a:pt x="8011" y="8958"/>
                  <a:pt x="7874" y="8975"/>
                  <a:pt x="7987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90840" y="3510000"/>
            <a:ext cx="125280" cy="1778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6921" y="9847"/>
                </a:moveTo>
                <a:cubicBezTo>
                  <a:pt x="6975" y="9780"/>
                  <a:pt x="7129" y="9692"/>
                  <a:pt x="7218" y="9798"/>
                </a:cubicBezTo>
                <a:cubicBezTo>
                  <a:pt x="7351" y="9957"/>
                  <a:pt x="7114" y="10183"/>
                  <a:pt x="6995" y="10244"/>
                </a:cubicBezTo>
                <a:cubicBezTo>
                  <a:pt x="6943" y="10244"/>
                  <a:pt x="6926" y="10243"/>
                  <a:pt x="6921" y="10195"/>
                </a:cubicBezTo>
                <a:cubicBezTo>
                  <a:pt x="6970" y="10070"/>
                  <a:pt x="7051" y="10067"/>
                  <a:pt x="7193" y="10096"/>
                </a:cubicBezTo>
                <a:cubicBezTo>
                  <a:pt x="7223" y="10125"/>
                  <a:pt x="7238" y="10130"/>
                  <a:pt x="7268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mcgra</cp:lastModifiedBy>
  <dcterms:modified xsi:type="dcterms:W3CDTF">2012-04-12T19:34:07Z</dcterms:modified>
  <cp:revision>11</cp:revision>
  <dc:subject/>
  <dc:title>Obj 5.4:  To divide fractions &amp; mixed numbers.</dc:title>
</cp:coreProperties>
</file>